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1DE-346E-460E-82EB-634313FA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6A1-FEBC-47B7-8D09-3BEF0624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EB0-AF44-494F-9720-4620F8DC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969-8F84-4061-97CA-395D30B0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9AD5-0417-4CCA-B295-981732D9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06C0-8211-4D13-8157-6D9CC1F3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3CCA-A530-4C9C-8E25-46313288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5318-609D-4184-AE69-957A152C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B1B6-20D8-4B1F-BC6F-26CB7139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94D6-0F38-4F84-B47C-E93A669F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171A-2E64-4E7E-B7FA-4070F5B6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1E1-BB06-47DF-AB1F-933F6044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41EE-A302-45CA-80F3-3C71078E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A091-1000-4066-A560-48A0FD7C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2804-AB21-4D19-9A43-3D9ECEAC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F773-BDAC-418B-B966-FD930F1B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A416-5E98-4CC3-9DA9-A75D0D8E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2F9-5F22-48FA-852B-77BBF3A1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6DB-B086-41BE-9AFE-A90F1393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BF3-3552-4EB9-981B-9C28D0B2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5DE-515A-4EE5-8B92-C9D42062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F5B-9936-4AF0-87C1-36241B3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582-0304-4535-9C9D-F6659D75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707-1EBF-4FB8-B958-9966F367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9e3"/>
            </a:gs>
            <a:gs pos="100000">
              <a:srgbClr val="3fb6ff">
                <a:alpha val="6509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1840" cy="6856200"/>
            <a:chOff x="0" y="0"/>
            <a:chExt cx="91418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400" cy="165528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1655280"/>
                <a:gd name="textAreaBottom" fmla="*/ 1655640 h 165528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a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1840" cy="6856200"/>
              <a:chOff x="0" y="0"/>
              <a:chExt cx="9141840" cy="685620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400" cy="6624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400" cy="489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400" cy="568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6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6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400" cy="568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400" cy="1872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400" cy="1872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6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400" cy="1658520"/>
                <a:chOff x="0" y="0"/>
                <a:chExt cx="9140400" cy="165852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240" cy="16585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5880" cy="165852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520" cy="1658520"/>
                </a:xfrm>
                <a:custGeom>
                  <a:avLst/>
                  <a:gdLst>
                    <a:gd name="textAreaLeft" fmla="*/ 0 w 380520"/>
                    <a:gd name="textAreaRight" fmla="*/ 380880 w 38052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520"/>
                </a:xfrm>
                <a:custGeom>
                  <a:avLst/>
                  <a:gdLst>
                    <a:gd name="textAreaLeft" fmla="*/ 0 w 560160"/>
                    <a:gd name="textAreaRight" fmla="*/ 560520 w 56016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3880" cy="1658520"/>
                </a:xfrm>
                <a:custGeom>
                  <a:avLst/>
                  <a:gdLst>
                    <a:gd name="textAreaLeft" fmla="*/ 0 w 713880"/>
                    <a:gd name="textAreaRight" fmla="*/ 714240 w 71388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6800" cy="1658520"/>
                </a:xfrm>
                <a:custGeom>
                  <a:avLst/>
                  <a:gdLst>
                    <a:gd name="textAreaLeft" fmla="*/ 0 w 856800"/>
                    <a:gd name="textAreaRight" fmla="*/ 857160 w 8568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8800" cy="1658520"/>
                </a:xfrm>
                <a:custGeom>
                  <a:avLst/>
                  <a:gdLst>
                    <a:gd name="textAreaLeft" fmla="*/ 0 w 1018800"/>
                    <a:gd name="textAreaRight" fmla="*/ 1019160 w 10188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999720" cy="148716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487160"/>
                    <a:gd name="textAreaBottom" fmla="*/ 1487520 h 148716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5880" cy="165852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520" cy="1658520"/>
                </a:xfrm>
                <a:custGeom>
                  <a:avLst/>
                  <a:gdLst>
                    <a:gd name="textAreaLeft" fmla="*/ 0 w 380520"/>
                    <a:gd name="textAreaRight" fmla="*/ 380880 w 38052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520" cy="1658520"/>
                </a:xfrm>
                <a:custGeom>
                  <a:avLst/>
                  <a:gdLst>
                    <a:gd name="textAreaLeft" fmla="*/ 0 w 569520"/>
                    <a:gd name="textAreaRight" fmla="*/ 569880 w 56952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440" cy="1658520"/>
                </a:xfrm>
                <a:custGeom>
                  <a:avLst/>
                  <a:gdLst>
                    <a:gd name="textAreaLeft" fmla="*/ 0 w 712440"/>
                    <a:gd name="textAreaRight" fmla="*/ 712800 w 71244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52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8800" cy="1658520"/>
                </a:xfrm>
                <a:custGeom>
                  <a:avLst/>
                  <a:gdLst>
                    <a:gd name="textAreaLeft" fmla="*/ 0 w 1018800"/>
                    <a:gd name="textAreaRight" fmla="*/ 1019160 w 10188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320" cy="1582200"/>
                </a:xfrm>
                <a:custGeom>
                  <a:avLst/>
                  <a:gdLst>
                    <a:gd name="textAreaLeft" fmla="*/ 0 w 1066320"/>
                    <a:gd name="textAreaRight" fmla="*/ 1066680 w 1066320"/>
                    <a:gd name="textAreaTop" fmla="*/ 0 h 1582200"/>
                    <a:gd name="textAreaBottom" fmla="*/ 1582560 h 158220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280" cy="677520"/>
                </a:xfrm>
                <a:custGeom>
                  <a:avLst/>
                  <a:gdLst>
                    <a:gd name="textAreaLeft" fmla="*/ 0 w 485280"/>
                    <a:gd name="textAreaRight" fmla="*/ 485640 w 485280"/>
                    <a:gd name="textAreaTop" fmla="*/ 0 h 677520"/>
                    <a:gd name="textAreaBottom" fmla="*/ 677880 h 67752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60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4800" cy="5206680"/>
                <a:chOff x="419040" y="1649520"/>
                <a:chExt cx="8254800" cy="520668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240" cy="520668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120" cy="5206680"/>
                </a:xfrm>
                <a:custGeom>
                  <a:avLst/>
                  <a:gdLst>
                    <a:gd name="textAreaLeft" fmla="*/ 0 w 636120"/>
                    <a:gd name="textAreaRight" fmla="*/ 636480 w 63612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240" cy="5206680"/>
                </a:xfrm>
                <a:custGeom>
                  <a:avLst/>
                  <a:gdLst>
                    <a:gd name="textAreaLeft" fmla="*/ 0 w 1074240"/>
                    <a:gd name="textAreaRight" fmla="*/ 1074600 w 107424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200" cy="5206680"/>
                </a:xfrm>
                <a:custGeom>
                  <a:avLst/>
                  <a:gdLst>
                    <a:gd name="textAreaLeft" fmla="*/ 0 w 1636200"/>
                    <a:gd name="textAreaRight" fmla="*/ 1636560 w 163620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3400" cy="5206680"/>
                </a:xfrm>
                <a:custGeom>
                  <a:avLst/>
                  <a:gdLst>
                    <a:gd name="textAreaLeft" fmla="*/ 0 w 2093400"/>
                    <a:gd name="textAreaRight" fmla="*/ 2093760 w 209340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7920" cy="5206680"/>
                </a:xfrm>
                <a:custGeom>
                  <a:avLst/>
                  <a:gdLst>
                    <a:gd name="textAreaLeft" fmla="*/ 0 w 637920"/>
                    <a:gd name="textAreaRight" fmla="*/ 638280 w 63792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240" cy="5206680"/>
                </a:xfrm>
                <a:custGeom>
                  <a:avLst/>
                  <a:gdLst>
                    <a:gd name="textAreaLeft" fmla="*/ 0 w 1074240"/>
                    <a:gd name="textAreaRight" fmla="*/ 1074600 w 107424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120" cy="5206680"/>
                </a:xfrm>
                <a:custGeom>
                  <a:avLst/>
                  <a:gdLst>
                    <a:gd name="textAreaLeft" fmla="*/ 0 w 1644120"/>
                    <a:gd name="textAreaRight" fmla="*/ 1644480 w 164412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360" cy="5206680"/>
                </a:xfrm>
                <a:custGeom>
                  <a:avLst/>
                  <a:gdLst>
                    <a:gd name="textAreaLeft" fmla="*/ 0 w 2106360"/>
                    <a:gd name="textAreaRight" fmla="*/ 2106720 w 210636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440" cy="41778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4177800"/>
                  <a:gd name="textAreaBottom" fmla="*/ 4178160 h 417780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>
                  <a:gd name="textAreaLeft" fmla="*/ 0 w 1504440"/>
                  <a:gd name="textAreaRight" fmla="*/ 1504800 w 150444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280" cy="1487160"/>
              </a:xfrm>
              <a:custGeom>
                <a:avLst/>
                <a:gdLst>
                  <a:gd name="textAreaLeft" fmla="*/ 0 w 998280"/>
                  <a:gd name="textAreaRight" fmla="*/ 998640 w 998280"/>
                  <a:gd name="textAreaTop" fmla="*/ 0 h 1487160"/>
                  <a:gd name="textAreaBottom" fmla="*/ 1487520 h 148716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3840" cy="67752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677520"/>
                  <a:gd name="textAreaBottom" fmla="*/ 677880 h 67752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6800" cy="4263840"/>
              </a:xfrm>
              <a:custGeom>
                <a:avLst/>
                <a:gdLst>
                  <a:gd name="textAreaLeft" fmla="*/ 0 w 2026800"/>
                  <a:gd name="textAreaRight" fmla="*/ 2027160 w 202680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160" cy="2746080"/>
              </a:xfrm>
              <a:custGeom>
                <a:avLst/>
                <a:gdLst>
                  <a:gd name="textAreaLeft" fmla="*/ 0 w 1568160"/>
                  <a:gd name="textAreaRight" fmla="*/ 1568520 w 1568160"/>
                  <a:gd name="textAreaTop" fmla="*/ 0 h 2746080"/>
                  <a:gd name="textAreaBottom" fmla="*/ 2746440 h 274608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20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200"/>
                  <a:gd name="textAreaBottom" fmla="*/ 1582560 h 158220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000" cy="77292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1"/>
          </p:nvPr>
        </p:nvSpPr>
        <p:spPr>
          <a:xfrm>
            <a:off x="455760" y="6242040"/>
            <a:ext cx="2130120" cy="47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2"/>
          </p:nvPr>
        </p:nvSpPr>
        <p:spPr>
          <a:xfrm>
            <a:off x="3124080" y="6242040"/>
            <a:ext cx="2895120" cy="47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2040"/>
            <a:ext cx="2130120" cy="47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8D953A-55B1-418E-AD69-E0C5BDA70FF4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eaeaea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eaeaea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eaeaea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eaeaea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eaeaea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9e3"/>
            </a:gs>
            <a:gs pos="100000">
              <a:srgbClr val="3fb6ff">
                <a:alpha val="6509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1840" cy="6856200"/>
            <a:chOff x="0" y="0"/>
            <a:chExt cx="9141840" cy="685620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400" cy="165528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1655280"/>
                <a:gd name="textAreaBottom" fmla="*/ 1655640 h 165528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a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1840" cy="6856200"/>
              <a:chOff x="0" y="0"/>
              <a:chExt cx="9141840" cy="685620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400" cy="6624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400" cy="489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400" cy="568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6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6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400" cy="568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400" cy="1872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400" cy="1872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6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400" cy="1658520"/>
                <a:chOff x="0" y="0"/>
                <a:chExt cx="9140400" cy="165852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240" cy="16585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5880" cy="165852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520" cy="1658520"/>
                </a:xfrm>
                <a:custGeom>
                  <a:avLst/>
                  <a:gdLst>
                    <a:gd name="textAreaLeft" fmla="*/ 0 w 380520"/>
                    <a:gd name="textAreaRight" fmla="*/ 380880 w 38052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520"/>
                </a:xfrm>
                <a:custGeom>
                  <a:avLst/>
                  <a:gdLst>
                    <a:gd name="textAreaLeft" fmla="*/ 0 w 560160"/>
                    <a:gd name="textAreaRight" fmla="*/ 560520 w 56016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3880" cy="1658520"/>
                </a:xfrm>
                <a:custGeom>
                  <a:avLst/>
                  <a:gdLst>
                    <a:gd name="textAreaLeft" fmla="*/ 0 w 713880"/>
                    <a:gd name="textAreaRight" fmla="*/ 714240 w 71388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6800" cy="1658520"/>
                </a:xfrm>
                <a:custGeom>
                  <a:avLst/>
                  <a:gdLst>
                    <a:gd name="textAreaLeft" fmla="*/ 0 w 856800"/>
                    <a:gd name="textAreaRight" fmla="*/ 857160 w 8568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8800" cy="1658520"/>
                </a:xfrm>
                <a:custGeom>
                  <a:avLst/>
                  <a:gdLst>
                    <a:gd name="textAreaLeft" fmla="*/ 0 w 1018800"/>
                    <a:gd name="textAreaRight" fmla="*/ 1019160 w 10188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999720" cy="148716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487160"/>
                    <a:gd name="textAreaBottom" fmla="*/ 1487520 h 148716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5880" cy="165852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520" cy="1658520"/>
                </a:xfrm>
                <a:custGeom>
                  <a:avLst/>
                  <a:gdLst>
                    <a:gd name="textAreaLeft" fmla="*/ 0 w 380520"/>
                    <a:gd name="textAreaRight" fmla="*/ 380880 w 38052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520" cy="1658520"/>
                </a:xfrm>
                <a:custGeom>
                  <a:avLst/>
                  <a:gdLst>
                    <a:gd name="textAreaLeft" fmla="*/ 0 w 569520"/>
                    <a:gd name="textAreaRight" fmla="*/ 569880 w 56952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440" cy="1658520"/>
                </a:xfrm>
                <a:custGeom>
                  <a:avLst/>
                  <a:gdLst>
                    <a:gd name="textAreaLeft" fmla="*/ 0 w 712440"/>
                    <a:gd name="textAreaRight" fmla="*/ 712800 w 71244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52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8800" cy="1658520"/>
                </a:xfrm>
                <a:custGeom>
                  <a:avLst/>
                  <a:gdLst>
                    <a:gd name="textAreaLeft" fmla="*/ 0 w 1018800"/>
                    <a:gd name="textAreaRight" fmla="*/ 1019160 w 10188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320" cy="1582200"/>
                </a:xfrm>
                <a:custGeom>
                  <a:avLst/>
                  <a:gdLst>
                    <a:gd name="textAreaLeft" fmla="*/ 0 w 1066320"/>
                    <a:gd name="textAreaRight" fmla="*/ 1066680 w 1066320"/>
                    <a:gd name="textAreaTop" fmla="*/ 0 h 1582200"/>
                    <a:gd name="textAreaBottom" fmla="*/ 1582560 h 158220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280" cy="677520"/>
                </a:xfrm>
                <a:custGeom>
                  <a:avLst/>
                  <a:gdLst>
                    <a:gd name="textAreaLeft" fmla="*/ 0 w 485280"/>
                    <a:gd name="textAreaRight" fmla="*/ 485640 w 485280"/>
                    <a:gd name="textAreaTop" fmla="*/ 0 h 677520"/>
                    <a:gd name="textAreaBottom" fmla="*/ 677880 h 67752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60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4800" cy="5206680"/>
                <a:chOff x="419040" y="1649520"/>
                <a:chExt cx="8254800" cy="520668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240" cy="520668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120" cy="5206680"/>
                </a:xfrm>
                <a:custGeom>
                  <a:avLst/>
                  <a:gdLst>
                    <a:gd name="textAreaLeft" fmla="*/ 0 w 636120"/>
                    <a:gd name="textAreaRight" fmla="*/ 636480 w 63612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240" cy="5206680"/>
                </a:xfrm>
                <a:custGeom>
                  <a:avLst/>
                  <a:gdLst>
                    <a:gd name="textAreaLeft" fmla="*/ 0 w 1074240"/>
                    <a:gd name="textAreaRight" fmla="*/ 1074600 w 107424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200" cy="5206680"/>
                </a:xfrm>
                <a:custGeom>
                  <a:avLst/>
                  <a:gdLst>
                    <a:gd name="textAreaLeft" fmla="*/ 0 w 1636200"/>
                    <a:gd name="textAreaRight" fmla="*/ 1636560 w 163620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3400" cy="5206680"/>
                </a:xfrm>
                <a:custGeom>
                  <a:avLst/>
                  <a:gdLst>
                    <a:gd name="textAreaLeft" fmla="*/ 0 w 2093400"/>
                    <a:gd name="textAreaRight" fmla="*/ 2093760 w 209340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7920" cy="5206680"/>
                </a:xfrm>
                <a:custGeom>
                  <a:avLst/>
                  <a:gdLst>
                    <a:gd name="textAreaLeft" fmla="*/ 0 w 637920"/>
                    <a:gd name="textAreaRight" fmla="*/ 638280 w 63792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240" cy="5206680"/>
                </a:xfrm>
                <a:custGeom>
                  <a:avLst/>
                  <a:gdLst>
                    <a:gd name="textAreaLeft" fmla="*/ 0 w 1074240"/>
                    <a:gd name="textAreaRight" fmla="*/ 1074600 w 107424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120" cy="5206680"/>
                </a:xfrm>
                <a:custGeom>
                  <a:avLst/>
                  <a:gdLst>
                    <a:gd name="textAreaLeft" fmla="*/ 0 w 1644120"/>
                    <a:gd name="textAreaRight" fmla="*/ 1644480 w 164412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360" cy="5206680"/>
                </a:xfrm>
                <a:custGeom>
                  <a:avLst/>
                  <a:gdLst>
                    <a:gd name="textAreaLeft" fmla="*/ 0 w 2106360"/>
                    <a:gd name="textAreaRight" fmla="*/ 2106720 w 210636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440" cy="41778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4177800"/>
                  <a:gd name="textAreaBottom" fmla="*/ 4178160 h 417780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>
                  <a:gd name="textAreaLeft" fmla="*/ 0 w 1504440"/>
                  <a:gd name="textAreaRight" fmla="*/ 1504800 w 150444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280" cy="1487160"/>
              </a:xfrm>
              <a:custGeom>
                <a:avLst/>
                <a:gdLst>
                  <a:gd name="textAreaLeft" fmla="*/ 0 w 998280"/>
                  <a:gd name="textAreaRight" fmla="*/ 998640 w 998280"/>
                  <a:gd name="textAreaTop" fmla="*/ 0 h 1487160"/>
                  <a:gd name="textAreaBottom" fmla="*/ 1487520 h 148716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3840" cy="67752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677520"/>
                  <a:gd name="textAreaBottom" fmla="*/ 677880 h 67752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6800" cy="4263840"/>
              </a:xfrm>
              <a:custGeom>
                <a:avLst/>
                <a:gdLst>
                  <a:gd name="textAreaLeft" fmla="*/ 0 w 2026800"/>
                  <a:gd name="textAreaRight" fmla="*/ 2027160 w 202680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160" cy="2746080"/>
              </a:xfrm>
              <a:custGeom>
                <a:avLst/>
                <a:gdLst>
                  <a:gd name="textAreaLeft" fmla="*/ 0 w 1568160"/>
                  <a:gd name="textAreaRight" fmla="*/ 1568520 w 1568160"/>
                  <a:gd name="textAreaTop" fmla="*/ 0 h 2746080"/>
                  <a:gd name="textAreaBottom" fmla="*/ 2746440 h 274608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20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200"/>
                  <a:gd name="textAreaBottom" fmla="*/ 1582560 h 158220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000" cy="77292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Group 2"/>
          <p:cNvGrpSpPr/>
          <p:nvPr/>
        </p:nvGrpSpPr>
        <p:grpSpPr>
          <a:xfrm>
            <a:off x="0" y="0"/>
            <a:ext cx="9141840" cy="6856200"/>
            <a:chOff x="0" y="0"/>
            <a:chExt cx="9141840" cy="6856200"/>
          </a:xfrm>
        </p:grpSpPr>
        <p:sp>
          <p:nvSpPr>
            <p:cNvPr id="172" name="Freeform 3"/>
            <p:cNvSpPr/>
            <p:nvPr/>
          </p:nvSpPr>
          <p:spPr>
            <a:xfrm>
              <a:off x="0" y="0"/>
              <a:ext cx="9140400" cy="165528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1655280"/>
                <a:gd name="textAreaBottom" fmla="*/ 1655640 h 165528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a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0" y="0"/>
              <a:ext cx="9141840" cy="6856200"/>
              <a:chOff x="0" y="0"/>
              <a:chExt cx="9141840" cy="6856200"/>
            </a:xfrm>
          </p:grpSpPr>
          <p:sp>
            <p:nvSpPr>
              <p:cNvPr id="174" name="Freeform 5"/>
              <p:cNvSpPr/>
              <p:nvPr/>
            </p:nvSpPr>
            <p:spPr>
              <a:xfrm>
                <a:off x="1440" y="165096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Freeform 6"/>
              <p:cNvSpPr/>
              <p:nvPr/>
            </p:nvSpPr>
            <p:spPr>
              <a:xfrm>
                <a:off x="0" y="6330960"/>
                <a:ext cx="9140400" cy="6624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>
                <a:off x="0" y="581832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>
                <a:off x="0" y="534024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Freeform 9"/>
              <p:cNvSpPr/>
              <p:nvPr/>
            </p:nvSpPr>
            <p:spPr>
              <a:xfrm>
                <a:off x="0" y="4929120"/>
                <a:ext cx="9140400" cy="489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0" y="4538520"/>
                <a:ext cx="9140400" cy="568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6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0" y="419724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6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0" y="3862440"/>
                <a:ext cx="9140400" cy="568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0" y="358632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0" y="331776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0" y="306072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>
                <a:off x="0" y="2611440"/>
                <a:ext cx="9140400" cy="1872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Freeform 17"/>
              <p:cNvSpPr/>
              <p:nvPr/>
            </p:nvSpPr>
            <p:spPr>
              <a:xfrm>
                <a:off x="0" y="282240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Freeform 18"/>
              <p:cNvSpPr/>
              <p:nvPr/>
            </p:nvSpPr>
            <p:spPr>
              <a:xfrm>
                <a:off x="0" y="2413080"/>
                <a:ext cx="9140400" cy="1872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Freeform 19"/>
              <p:cNvSpPr/>
              <p:nvPr/>
            </p:nvSpPr>
            <p:spPr>
              <a:xfrm>
                <a:off x="0" y="221292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Freeform 20"/>
              <p:cNvSpPr/>
              <p:nvPr/>
            </p:nvSpPr>
            <p:spPr>
              <a:xfrm>
                <a:off x="0" y="203184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Freeform 21"/>
              <p:cNvSpPr/>
              <p:nvPr/>
            </p:nvSpPr>
            <p:spPr>
              <a:xfrm>
                <a:off x="0" y="186840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Freeform 22"/>
              <p:cNvSpPr/>
              <p:nvPr/>
            </p:nvSpPr>
            <p:spPr>
              <a:xfrm>
                <a:off x="0" y="38160"/>
                <a:ext cx="9140400" cy="4716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Freeform 23"/>
              <p:cNvSpPr/>
              <p:nvPr/>
            </p:nvSpPr>
            <p:spPr>
              <a:xfrm>
                <a:off x="0" y="29520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Freeform 24"/>
              <p:cNvSpPr/>
              <p:nvPr/>
            </p:nvSpPr>
            <p:spPr>
              <a:xfrm>
                <a:off x="0" y="75420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6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Freeform 25"/>
              <p:cNvSpPr/>
              <p:nvPr/>
            </p:nvSpPr>
            <p:spPr>
              <a:xfrm>
                <a:off x="0" y="53496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0" y="952560"/>
                <a:ext cx="9140400" cy="3780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>
                <a:off x="0" y="115416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Freeform 28"/>
              <p:cNvSpPr/>
              <p:nvPr/>
            </p:nvSpPr>
            <p:spPr>
              <a:xfrm>
                <a:off x="0" y="133524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Freeform 29"/>
              <p:cNvSpPr/>
              <p:nvPr/>
            </p:nvSpPr>
            <p:spPr>
              <a:xfrm>
                <a:off x="0" y="1496880"/>
                <a:ext cx="9140400" cy="28080"/>
              </a:xfrm>
              <a:custGeom>
                <a:avLst/>
                <a:gdLst>
                  <a:gd name="textAreaLeft" fmla="*/ 0 w 9140400"/>
                  <a:gd name="textAreaRight" fmla="*/ 9140760 w 9140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d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99" name="Group 30"/>
              <p:cNvGrpSpPr/>
              <p:nvPr/>
            </p:nvGrpSpPr>
            <p:grpSpPr>
              <a:xfrm>
                <a:off x="0" y="0"/>
                <a:ext cx="9140400" cy="1658520"/>
                <a:chOff x="0" y="0"/>
                <a:chExt cx="9140400" cy="1658520"/>
              </a:xfrm>
            </p:grpSpPr>
            <p:sp>
              <p:nvSpPr>
                <p:cNvPr id="200" name="Freeform 31"/>
                <p:cNvSpPr/>
                <p:nvPr/>
              </p:nvSpPr>
              <p:spPr>
                <a:xfrm>
                  <a:off x="4522680" y="0"/>
                  <a:ext cx="66240" cy="16585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32"/>
                <p:cNvSpPr/>
                <p:nvPr/>
              </p:nvSpPr>
              <p:spPr>
                <a:xfrm>
                  <a:off x="3809880" y="0"/>
                  <a:ext cx="245880" cy="165852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33"/>
                <p:cNvSpPr/>
                <p:nvPr/>
              </p:nvSpPr>
              <p:spPr>
                <a:xfrm>
                  <a:off x="3122640" y="0"/>
                  <a:ext cx="380520" cy="1658520"/>
                </a:xfrm>
                <a:custGeom>
                  <a:avLst/>
                  <a:gdLst>
                    <a:gd name="textAreaLeft" fmla="*/ 0 w 380520"/>
                    <a:gd name="textAreaRight" fmla="*/ 380880 w 38052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34"/>
                <p:cNvSpPr/>
                <p:nvPr/>
              </p:nvSpPr>
              <p:spPr>
                <a:xfrm>
                  <a:off x="2467080" y="0"/>
                  <a:ext cx="560160" cy="1658520"/>
                </a:xfrm>
                <a:custGeom>
                  <a:avLst/>
                  <a:gdLst>
                    <a:gd name="textAreaLeft" fmla="*/ 0 w 560160"/>
                    <a:gd name="textAreaRight" fmla="*/ 560520 w 56016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35"/>
                <p:cNvSpPr/>
                <p:nvPr/>
              </p:nvSpPr>
              <p:spPr>
                <a:xfrm>
                  <a:off x="1800360" y="0"/>
                  <a:ext cx="713880" cy="1658520"/>
                </a:xfrm>
                <a:custGeom>
                  <a:avLst/>
                  <a:gdLst>
                    <a:gd name="textAreaLeft" fmla="*/ 0 w 713880"/>
                    <a:gd name="textAreaRight" fmla="*/ 714240 w 71388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36"/>
                <p:cNvSpPr/>
                <p:nvPr/>
              </p:nvSpPr>
              <p:spPr>
                <a:xfrm>
                  <a:off x="1133640" y="0"/>
                  <a:ext cx="856800" cy="1658520"/>
                </a:xfrm>
                <a:custGeom>
                  <a:avLst/>
                  <a:gdLst>
                    <a:gd name="textAreaLeft" fmla="*/ 0 w 856800"/>
                    <a:gd name="textAreaRight" fmla="*/ 857160 w 8568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37"/>
                <p:cNvSpPr/>
                <p:nvPr/>
              </p:nvSpPr>
              <p:spPr>
                <a:xfrm>
                  <a:off x="485640" y="0"/>
                  <a:ext cx="1018800" cy="1658520"/>
                </a:xfrm>
                <a:custGeom>
                  <a:avLst/>
                  <a:gdLst>
                    <a:gd name="textAreaLeft" fmla="*/ 0 w 1018800"/>
                    <a:gd name="textAreaRight" fmla="*/ 1019160 w 10188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38"/>
                <p:cNvSpPr/>
                <p:nvPr/>
              </p:nvSpPr>
              <p:spPr>
                <a:xfrm>
                  <a:off x="0" y="171360"/>
                  <a:ext cx="999720" cy="1487160"/>
                </a:xfrm>
                <a:custGeom>
                  <a:avLst/>
                  <a:gdLst>
                    <a:gd name="textAreaLeft" fmla="*/ 0 w 999720"/>
                    <a:gd name="textAreaRight" fmla="*/ 1000080 w 999720"/>
                    <a:gd name="textAreaTop" fmla="*/ 0 h 1487160"/>
                    <a:gd name="textAreaBottom" fmla="*/ 1487520 h 148716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39"/>
                <p:cNvSpPr/>
                <p:nvPr/>
              </p:nvSpPr>
              <p:spPr>
                <a:xfrm>
                  <a:off x="5065560" y="0"/>
                  <a:ext cx="245880" cy="1658520"/>
                </a:xfrm>
                <a:custGeom>
                  <a:avLst/>
                  <a:gdLst>
                    <a:gd name="textAreaLeft" fmla="*/ 0 w 245880"/>
                    <a:gd name="textAreaRight" fmla="*/ 246240 w 24588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40"/>
                <p:cNvSpPr/>
                <p:nvPr/>
              </p:nvSpPr>
              <p:spPr>
                <a:xfrm>
                  <a:off x="5608800" y="0"/>
                  <a:ext cx="380520" cy="1658520"/>
                </a:xfrm>
                <a:custGeom>
                  <a:avLst/>
                  <a:gdLst>
                    <a:gd name="textAreaLeft" fmla="*/ 0 w 380520"/>
                    <a:gd name="textAreaRight" fmla="*/ 380880 w 38052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41"/>
                <p:cNvSpPr/>
                <p:nvPr/>
              </p:nvSpPr>
              <p:spPr>
                <a:xfrm>
                  <a:off x="6066000" y="0"/>
                  <a:ext cx="569520" cy="1658520"/>
                </a:xfrm>
                <a:custGeom>
                  <a:avLst/>
                  <a:gdLst>
                    <a:gd name="textAreaLeft" fmla="*/ 0 w 569520"/>
                    <a:gd name="textAreaRight" fmla="*/ 569880 w 56952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42"/>
                <p:cNvSpPr/>
                <p:nvPr/>
              </p:nvSpPr>
              <p:spPr>
                <a:xfrm>
                  <a:off x="6570720" y="0"/>
                  <a:ext cx="712440" cy="1658520"/>
                </a:xfrm>
                <a:custGeom>
                  <a:avLst/>
                  <a:gdLst>
                    <a:gd name="textAreaLeft" fmla="*/ 0 w 712440"/>
                    <a:gd name="textAreaRight" fmla="*/ 712800 w 71244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43"/>
                <p:cNvSpPr/>
                <p:nvPr/>
              </p:nvSpPr>
              <p:spPr>
                <a:xfrm>
                  <a:off x="7112160" y="0"/>
                  <a:ext cx="858600" cy="165852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44"/>
                <p:cNvSpPr/>
                <p:nvPr/>
              </p:nvSpPr>
              <p:spPr>
                <a:xfrm>
                  <a:off x="7569360" y="0"/>
                  <a:ext cx="1018800" cy="1658520"/>
                </a:xfrm>
                <a:custGeom>
                  <a:avLst/>
                  <a:gdLst>
                    <a:gd name="textAreaLeft" fmla="*/ 0 w 1018800"/>
                    <a:gd name="textAreaRight" fmla="*/ 1019160 w 1018800"/>
                    <a:gd name="textAreaTop" fmla="*/ 0 h 1658520"/>
                    <a:gd name="textAreaBottom" fmla="*/ 1658880 h 165852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45"/>
                <p:cNvSpPr/>
                <p:nvPr/>
              </p:nvSpPr>
              <p:spPr>
                <a:xfrm>
                  <a:off x="8074080" y="76320"/>
                  <a:ext cx="1066320" cy="1582200"/>
                </a:xfrm>
                <a:custGeom>
                  <a:avLst/>
                  <a:gdLst>
                    <a:gd name="textAreaLeft" fmla="*/ 0 w 1066320"/>
                    <a:gd name="textAreaRight" fmla="*/ 1066680 w 1066320"/>
                    <a:gd name="textAreaTop" fmla="*/ 0 h 1582200"/>
                    <a:gd name="textAreaBottom" fmla="*/ 1582560 h 158220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6" name="Freeform 47"/>
                <p:cNvSpPr/>
                <p:nvPr/>
              </p:nvSpPr>
              <p:spPr>
                <a:xfrm>
                  <a:off x="0" y="981000"/>
                  <a:ext cx="485280" cy="677520"/>
                </a:xfrm>
                <a:custGeom>
                  <a:avLst/>
                  <a:gdLst>
                    <a:gd name="textAreaLeft" fmla="*/ 0 w 485280"/>
                    <a:gd name="textAreaRight" fmla="*/ 485640 w 485280"/>
                    <a:gd name="textAreaTop" fmla="*/ 0 h 677520"/>
                    <a:gd name="textAreaBottom" fmla="*/ 677880 h 67752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60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chemeClr val="accent2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49"/>
              <p:cNvGrpSpPr/>
              <p:nvPr/>
            </p:nvGrpSpPr>
            <p:grpSpPr>
              <a:xfrm>
                <a:off x="419040" y="1649520"/>
                <a:ext cx="8254800" cy="5206680"/>
                <a:chOff x="419040" y="1649520"/>
                <a:chExt cx="8254800" cy="5206680"/>
              </a:xfrm>
            </p:grpSpPr>
            <p:sp>
              <p:nvSpPr>
                <p:cNvPr id="219" name="Freeform 50"/>
                <p:cNvSpPr/>
                <p:nvPr/>
              </p:nvSpPr>
              <p:spPr>
                <a:xfrm>
                  <a:off x="4522680" y="1649520"/>
                  <a:ext cx="66240" cy="520668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51"/>
                <p:cNvSpPr/>
                <p:nvPr/>
              </p:nvSpPr>
              <p:spPr>
                <a:xfrm>
                  <a:off x="3419640" y="1649520"/>
                  <a:ext cx="636120" cy="5206680"/>
                </a:xfrm>
                <a:custGeom>
                  <a:avLst/>
                  <a:gdLst>
                    <a:gd name="textAreaLeft" fmla="*/ 0 w 636120"/>
                    <a:gd name="textAreaRight" fmla="*/ 636480 w 63612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52"/>
                <p:cNvSpPr/>
                <p:nvPr/>
              </p:nvSpPr>
              <p:spPr>
                <a:xfrm>
                  <a:off x="2428920" y="1649520"/>
                  <a:ext cx="1074240" cy="5206680"/>
                </a:xfrm>
                <a:custGeom>
                  <a:avLst/>
                  <a:gdLst>
                    <a:gd name="textAreaLeft" fmla="*/ 0 w 1074240"/>
                    <a:gd name="textAreaRight" fmla="*/ 1074600 w 107424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53"/>
                <p:cNvSpPr/>
                <p:nvPr/>
              </p:nvSpPr>
              <p:spPr>
                <a:xfrm>
                  <a:off x="1390680" y="1649520"/>
                  <a:ext cx="1636200" cy="5206680"/>
                </a:xfrm>
                <a:custGeom>
                  <a:avLst/>
                  <a:gdLst>
                    <a:gd name="textAreaLeft" fmla="*/ 0 w 1636200"/>
                    <a:gd name="textAreaRight" fmla="*/ 1636560 w 163620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54"/>
                <p:cNvSpPr/>
                <p:nvPr/>
              </p:nvSpPr>
              <p:spPr>
                <a:xfrm>
                  <a:off x="419040" y="1649520"/>
                  <a:ext cx="2093400" cy="5206680"/>
                </a:xfrm>
                <a:custGeom>
                  <a:avLst/>
                  <a:gdLst>
                    <a:gd name="textAreaLeft" fmla="*/ 0 w 2093400"/>
                    <a:gd name="textAreaRight" fmla="*/ 2093760 w 209340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55"/>
                <p:cNvSpPr/>
                <p:nvPr/>
              </p:nvSpPr>
              <p:spPr>
                <a:xfrm>
                  <a:off x="5065560" y="1649520"/>
                  <a:ext cx="637920" cy="5206680"/>
                </a:xfrm>
                <a:custGeom>
                  <a:avLst/>
                  <a:gdLst>
                    <a:gd name="textAreaLeft" fmla="*/ 0 w 637920"/>
                    <a:gd name="textAreaRight" fmla="*/ 638280 w 63792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56"/>
                <p:cNvSpPr/>
                <p:nvPr/>
              </p:nvSpPr>
              <p:spPr>
                <a:xfrm>
                  <a:off x="5608800" y="1649520"/>
                  <a:ext cx="1074240" cy="5206680"/>
                </a:xfrm>
                <a:custGeom>
                  <a:avLst/>
                  <a:gdLst>
                    <a:gd name="textAreaLeft" fmla="*/ 0 w 1074240"/>
                    <a:gd name="textAreaRight" fmla="*/ 1074600 w 107424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57"/>
                <p:cNvSpPr/>
                <p:nvPr/>
              </p:nvSpPr>
              <p:spPr>
                <a:xfrm>
                  <a:off x="6067440" y="1649520"/>
                  <a:ext cx="1644120" cy="5206680"/>
                </a:xfrm>
                <a:custGeom>
                  <a:avLst/>
                  <a:gdLst>
                    <a:gd name="textAreaLeft" fmla="*/ 0 w 1644120"/>
                    <a:gd name="textAreaRight" fmla="*/ 1644480 w 164412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58"/>
                <p:cNvSpPr/>
                <p:nvPr/>
              </p:nvSpPr>
              <p:spPr>
                <a:xfrm>
                  <a:off x="6567480" y="1649520"/>
                  <a:ext cx="2106360" cy="5206680"/>
                </a:xfrm>
                <a:custGeom>
                  <a:avLst/>
                  <a:gdLst>
                    <a:gd name="textAreaLeft" fmla="*/ 0 w 2106360"/>
                    <a:gd name="textAreaRight" fmla="*/ 2106720 w 2106360"/>
                    <a:gd name="textAreaTop" fmla="*/ 0 h 5206680"/>
                    <a:gd name="textAreaBottom" fmla="*/ 5207040 h 520668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ru-RU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Freeform 59"/>
              <p:cNvSpPr/>
              <p:nvPr/>
            </p:nvSpPr>
            <p:spPr>
              <a:xfrm>
                <a:off x="0" y="1649520"/>
                <a:ext cx="1990440" cy="41778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4177800"/>
                  <a:gd name="textAreaBottom" fmla="*/ 4178160 h 417780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>
                  <a:gd name="textAreaLeft" fmla="*/ 0 w 1504440"/>
                  <a:gd name="textAreaRight" fmla="*/ 1504800 w 150444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Freeform 61"/>
              <p:cNvSpPr/>
              <p:nvPr/>
            </p:nvSpPr>
            <p:spPr>
              <a:xfrm>
                <a:off x="0" y="1649520"/>
                <a:ext cx="998280" cy="1487160"/>
              </a:xfrm>
              <a:custGeom>
                <a:avLst/>
                <a:gdLst>
                  <a:gd name="textAreaLeft" fmla="*/ 0 w 998280"/>
                  <a:gd name="textAreaRight" fmla="*/ 998640 w 998280"/>
                  <a:gd name="textAreaTop" fmla="*/ 0 h 1487160"/>
                  <a:gd name="textAreaBottom" fmla="*/ 1487520 h 148716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Freeform 62"/>
              <p:cNvSpPr/>
              <p:nvPr/>
            </p:nvSpPr>
            <p:spPr>
              <a:xfrm>
                <a:off x="0" y="1649520"/>
                <a:ext cx="483840" cy="67752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677520"/>
                  <a:gd name="textAreaBottom" fmla="*/ 677880 h 67752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Freeform 63"/>
              <p:cNvSpPr/>
              <p:nvPr/>
            </p:nvSpPr>
            <p:spPr>
              <a:xfrm>
                <a:off x="7113600" y="1649520"/>
                <a:ext cx="2026800" cy="4263840"/>
              </a:xfrm>
              <a:custGeom>
                <a:avLst/>
                <a:gdLst>
                  <a:gd name="textAreaLeft" fmla="*/ 0 w 2026800"/>
                  <a:gd name="textAreaRight" fmla="*/ 2027160 w 202680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Freeform 64"/>
              <p:cNvSpPr/>
              <p:nvPr/>
            </p:nvSpPr>
            <p:spPr>
              <a:xfrm>
                <a:off x="7572240" y="1649520"/>
                <a:ext cx="1568160" cy="2746080"/>
              </a:xfrm>
              <a:custGeom>
                <a:avLst/>
                <a:gdLst>
                  <a:gd name="textAreaLeft" fmla="*/ 0 w 1568160"/>
                  <a:gd name="textAreaRight" fmla="*/ 1568520 w 1568160"/>
                  <a:gd name="textAreaTop" fmla="*/ 0 h 2746080"/>
                  <a:gd name="textAreaBottom" fmla="*/ 2746440 h 274608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Freeform 65"/>
              <p:cNvSpPr/>
              <p:nvPr/>
            </p:nvSpPr>
            <p:spPr>
              <a:xfrm>
                <a:off x="8077320" y="1649520"/>
                <a:ext cx="1063440" cy="158220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200"/>
                  <a:gd name="textAreaBottom" fmla="*/ 1582560 h 158220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Freeform 66"/>
              <p:cNvSpPr/>
              <p:nvPr/>
            </p:nvSpPr>
            <p:spPr>
              <a:xfrm>
                <a:off x="8591400" y="1649520"/>
                <a:ext cx="549000" cy="77292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6000" cy="17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Образец заголовка</a:t>
            </a:r>
            <a:endParaRPr b="0" lang="ru-RU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4"/>
          </p:nvPr>
        </p:nvSpPr>
        <p:spPr>
          <a:xfrm>
            <a:off x="455760" y="6242040"/>
            <a:ext cx="2130120" cy="47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5"/>
          </p:nvPr>
        </p:nvSpPr>
        <p:spPr>
          <a:xfrm>
            <a:off x="3124080" y="6242040"/>
            <a:ext cx="2895120" cy="47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2040"/>
            <a:ext cx="2130120" cy="47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B72AD9-3E56-4DF1-B9A2-7C17283FFCD7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eaeaea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eaeaea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eaeaea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eaeaea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eaeaea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" Target="slide9.xml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9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" Target="slide9.xml"/><Relationship Id="rId6" Type="http://schemas.openxmlformats.org/officeDocument/2006/relationships/slide" Target="slide15.xml"/><Relationship Id="rId7" Type="http://schemas.openxmlformats.org/officeDocument/2006/relationships/slide" Target="slide9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" Target="slide9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214200" y="1143000"/>
            <a:ext cx="862848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Задач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35354d"/>
                </a:solidFill>
                <a:latin typeface="Times New Roman"/>
              </a:rPr>
              <a:t>Лекарственную настойку пьют каплями: в 1-ый день 6 капель, а в каждый следующий на 3 капли больше, чем в предыдущий. </a:t>
            </a:r>
            <a:r>
              <a:rPr b="0" i="1" lang="en-US" sz="20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5354d"/>
                </a:solidFill>
                <a:latin typeface="Times New Roman"/>
              </a:rPr>
              <a:t>Начиная с 11-го дня, дневную дозу ежедне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0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5354d"/>
                </a:solidFill>
                <a:latin typeface="Times New Roman"/>
              </a:rPr>
              <a:t>убавляют на 3 капли и заканчивают курс лечения на 19-ый день после его нач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0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5354d"/>
                </a:solidFill>
                <a:latin typeface="Times New Roman"/>
              </a:rPr>
              <a:t>а) Сколько капель лекарства примет больной за первые</a:t>
            </a:r>
            <a:r>
              <a:rPr b="0" i="1" lang="en-US" sz="2000" spc="-1" strike="noStrike">
                <a:solidFill>
                  <a:srgbClr val="35354d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35354d"/>
                </a:solidFill>
                <a:latin typeface="Times New Roman"/>
              </a:rPr>
              <a:t>10 дней леч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0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5354d"/>
                </a:solidFill>
                <a:latin typeface="Times New Roman"/>
              </a:rPr>
              <a:t>б) Сколько капель лекарства назначено на курс </a:t>
            </a:r>
            <a:r>
              <a:rPr b="0" i="1" lang="en-US" sz="20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5354d"/>
                </a:solidFill>
                <a:latin typeface="Times New Roman"/>
              </a:rPr>
              <a:t>леч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1214280" y="6286680"/>
            <a:ext cx="184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285840" y="4000680"/>
            <a:ext cx="85006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35354d"/>
                </a:solidFill>
                <a:latin typeface="Times New Roman"/>
              </a:rPr>
              <a:t>Задач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Премиальный фонд составляет 16250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Надо разделить его между четырьмя сотрудниками, согласно доле участия каждого так, чтобы каждый следующий получил в 1,5 раза больше предыдущ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Какую премию получит каждый сотруд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500040" y="285840"/>
            <a:ext cx="81435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рочитайте тексты задач и подумайте, к какой теме относится их решени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1428840" y="0"/>
            <a:ext cx="62845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4d4d73"/>
                </a:solidFill>
                <a:latin typeface="Monotype Corsiva"/>
              </a:rPr>
              <a:t>Оценка  работы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214200" y="500040"/>
            <a:ext cx="86436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1. Я знаю формулы по теме «прогресии» и могу их запис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все формулы – 2б,    некоторые формулы – 1б,     не знаю - 0б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311120" y="4602240"/>
            <a:ext cx="6716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214200" y="1285920"/>
            <a:ext cx="86436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2. Я могу применить формулы при решении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всегда – 2б,    частично – 1б,     не могу - 0б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14200" y="2143080"/>
            <a:ext cx="86436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3. Я   допускаю ошибки при  вычисл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никогда – 2б,    иногда – 1б,     часто - 0б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214200" y="3000240"/>
            <a:ext cx="864360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4. Сегодня я принимал активное участие при выполнении заданий на у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на протяжении всего урока – 2б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при выполнении некоторых заданий – 1б,  скромничал – 0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14200" y="4643280"/>
            <a:ext cx="86436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5. Я   могу составить самостоятельно задачу по данной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да – 2б,    сомневаюсь, что верно – 1б,     нет - 0б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85840" y="5572080"/>
            <a:ext cx="864360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Оцените себя: 4 – 5 б. оценка «3»;  6 – 8 б.   оценка «4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8 – 10 баллов  оценка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7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3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857160" y="3714840"/>
            <a:ext cx="7714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505073"/>
                </a:solidFill>
                <a:latin typeface="Times New Roman"/>
              </a:rPr>
              <a:t>http://blogs.privet.ru/community/vpoiskahistinu?page=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142920" y="371160"/>
            <a:ext cx="8786520" cy="29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35354d"/>
                </a:solidFill>
                <a:latin typeface="Times New Roman"/>
                <a:ea typeface="Calibri"/>
              </a:rPr>
              <a:t>Литера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5354d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35354d"/>
                </a:solidFill>
                <a:latin typeface="Times New Roman"/>
                <a:ea typeface="Calibri"/>
              </a:rPr>
              <a:t>Учебный комплект «Алгебра 9» Часть 1.Учебник. Часть 2.Зада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35354d"/>
                </a:solidFill>
                <a:latin typeface="Times New Roman"/>
                <a:ea typeface="Calibri"/>
              </a:rPr>
              <a:t>              </a:t>
            </a:r>
            <a:r>
              <a:rPr b="0" lang="ru-RU" sz="2000" spc="-1" strike="noStrike">
                <a:solidFill>
                  <a:srgbClr val="35354d"/>
                </a:solidFill>
                <a:latin typeface="Times New Roman"/>
                <a:ea typeface="Calibri"/>
              </a:rPr>
              <a:t>А.Г. Мордкович, Т.Н. Мишустина, Е.Е. Тульчинск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35354d"/>
                </a:solidFill>
                <a:latin typeface="Times New Roman"/>
                <a:ea typeface="Calibri"/>
              </a:rPr>
              <a:t>                                                                                             </a:t>
            </a:r>
            <a:r>
              <a:rPr b="0" lang="ru-RU" sz="2000" spc="-1" strike="noStrike">
                <a:solidFill>
                  <a:srgbClr val="35354d"/>
                </a:solidFill>
                <a:latin typeface="Times New Roman"/>
                <a:ea typeface="Calibri"/>
              </a:rPr>
              <a:t>М.: «Мнемоз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35354d"/>
                </a:solidFill>
                <a:latin typeface="Times New Roman"/>
                <a:ea typeface="Calibri"/>
              </a:rPr>
              <a:t>2. «Типовые тестовые задания ОГЭ» , 9 кла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35354d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0" lang="ru-RU" sz="2000" spc="-1" strike="noStrike">
                <a:solidFill>
                  <a:srgbClr val="35354d"/>
                </a:solidFill>
                <a:latin typeface="Times New Roman"/>
                <a:ea typeface="Calibri"/>
              </a:rPr>
              <a:t>И.В. Ященко. М.: «Экзаме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35354d"/>
                </a:solidFill>
                <a:latin typeface="Times New Roman"/>
                <a:ea typeface="Calibri"/>
              </a:rPr>
              <a:t>3. «Математика 9 класс», Г.В. Дорофеев. М.: «Дроф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"/>
          <p:cNvSpPr/>
          <p:nvPr/>
        </p:nvSpPr>
        <p:spPr>
          <a:xfrm>
            <a:off x="145440" y="3714840"/>
            <a:ext cx="40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5"/>
          <p:cNvSpPr/>
          <p:nvPr/>
        </p:nvSpPr>
        <p:spPr>
          <a:xfrm>
            <a:off x="4434840" y="753840"/>
            <a:ext cx="27396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;</a:t>
            </a:r>
            <a:r>
              <a:rPr b="0" lang="ru-RU" sz="11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54" name="Object 9"/>
          <p:cNvGraphicFramePr/>
          <p:nvPr/>
        </p:nvGraphicFramePr>
        <p:xfrm>
          <a:off x="571320" y="6000840"/>
          <a:ext cx="3114360" cy="11109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5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320" y="6000840"/>
                    <a:ext cx="311436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1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57" name="Object 13"/>
          <p:cNvGraphicFramePr/>
          <p:nvPr/>
        </p:nvGraphicFramePr>
        <p:xfrm>
          <a:off x="4857840" y="1285920"/>
          <a:ext cx="3857400" cy="12124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45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1285920"/>
                    <a:ext cx="3857400" cy="12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14"/>
          <p:cNvGraphicFramePr/>
          <p:nvPr/>
        </p:nvGraphicFramePr>
        <p:xfrm>
          <a:off x="571320" y="1357200"/>
          <a:ext cx="4096800" cy="11109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46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320" y="1357200"/>
                    <a:ext cx="409680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Box 11"/>
          <p:cNvSpPr/>
          <p:nvPr/>
        </p:nvSpPr>
        <p:spPr>
          <a:xfrm>
            <a:off x="468360" y="642960"/>
            <a:ext cx="7628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171717"/>
                </a:solidFill>
                <a:latin typeface="Times New Roman"/>
              </a:rPr>
              <a:t>Сумма премии каждого сотрудника это геомет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171717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171717"/>
                </a:solidFill>
                <a:latin typeface="Times New Roman"/>
              </a:rPr>
              <a:t>прогресс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214200" y="0"/>
            <a:ext cx="8715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Социально-экономический профи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Решение задач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398160" y="2357280"/>
            <a:ext cx="84214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Ответ: премиальный фонд распредели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2000р, 3000р, 4500р, 6750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4"/>
          <p:cNvSpPr/>
          <p:nvPr/>
        </p:nvSpPr>
        <p:spPr>
          <a:xfrm>
            <a:off x="3084480" y="3143160"/>
            <a:ext cx="2624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Решение задач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Object 16"/>
          <p:cNvGraphicFramePr/>
          <p:nvPr/>
        </p:nvGraphicFramePr>
        <p:xfrm>
          <a:off x="928800" y="3714840"/>
          <a:ext cx="6827400" cy="107928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46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800" y="3714840"/>
                    <a:ext cx="68274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Object 17"/>
          <p:cNvGraphicFramePr/>
          <p:nvPr/>
        </p:nvGraphicFramePr>
        <p:xfrm>
          <a:off x="928800" y="4857840"/>
          <a:ext cx="6698880" cy="11743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468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28800" y="4857840"/>
                    <a:ext cx="6698880" cy="11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Управляющая кнопка: настраиваемая 17">
            <a:hlinkClick r:id="rId11" action="ppaction://hlinksldjump"/>
          </p:cNvPr>
          <p:cNvSpPr/>
          <p:nvPr/>
        </p:nvSpPr>
        <p:spPr>
          <a:xfrm>
            <a:off x="6572160" y="6000840"/>
            <a:ext cx="1785600" cy="428400"/>
          </a:xfrm>
          <a:prstGeom prst="actionButtonBlank">
            <a:avLst/>
          </a:prstGeom>
          <a:solidFill>
            <a:schemeClr val="tx2">
              <a:lumMod val="75000"/>
            </a:schemeClr>
          </a:solidFill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 Unicode MS"/>
                <a:ea typeface="Arial Unicode MS"/>
                <a:hlinkClick r:id="rId12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1"/>
          <p:cNvSpPr/>
          <p:nvPr/>
        </p:nvSpPr>
        <p:spPr>
          <a:xfrm>
            <a:off x="500040" y="5357880"/>
            <a:ext cx="5714640" cy="342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2"/>
          <p:cNvSpPr/>
          <p:nvPr/>
        </p:nvSpPr>
        <p:spPr>
          <a:xfrm>
            <a:off x="785880" y="5000760"/>
            <a:ext cx="5071680" cy="342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1071360" y="4643280"/>
            <a:ext cx="4500360" cy="342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1428840" y="4286160"/>
            <a:ext cx="3857400" cy="342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1714320" y="3929040"/>
            <a:ext cx="3214440" cy="342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5" name="Прямоугольник 8"/>
          <p:cNvSpPr/>
          <p:nvPr/>
        </p:nvSpPr>
        <p:spPr>
          <a:xfrm>
            <a:off x="2000160" y="3571920"/>
            <a:ext cx="2714400" cy="342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6" name="Прямоугольник 9"/>
          <p:cNvSpPr/>
          <p:nvPr/>
        </p:nvSpPr>
        <p:spPr>
          <a:xfrm>
            <a:off x="2286000" y="3214800"/>
            <a:ext cx="2142720" cy="342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7" name="Прямоугольник 10"/>
          <p:cNvSpPr/>
          <p:nvPr/>
        </p:nvSpPr>
        <p:spPr>
          <a:xfrm>
            <a:off x="2571840" y="2857320"/>
            <a:ext cx="1642680" cy="342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8" name="Прямоугольник 11"/>
          <p:cNvSpPr/>
          <p:nvPr/>
        </p:nvSpPr>
        <p:spPr>
          <a:xfrm>
            <a:off x="2857320" y="2500200"/>
            <a:ext cx="1071360" cy="342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3071880" y="2143080"/>
            <a:ext cx="642600" cy="3423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505073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3143160" y="1714320"/>
            <a:ext cx="499680" cy="41400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solidFill>
              <a:srgbClr val="0096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505073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17"/>
          <p:cNvSpPr/>
          <p:nvPr/>
        </p:nvSpPr>
        <p:spPr>
          <a:xfrm>
            <a:off x="2571840" y="2071800"/>
            <a:ext cx="602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33334d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18"/>
          <p:cNvSpPr/>
          <p:nvPr/>
        </p:nvSpPr>
        <p:spPr>
          <a:xfrm>
            <a:off x="5588280" y="4572000"/>
            <a:ext cx="5698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33334d"/>
                </a:solidFill>
                <a:latin typeface="Times New Roman"/>
              </a:rPr>
              <a:t>19</a:t>
            </a: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19"/>
          <p:cNvSpPr/>
          <p:nvPr/>
        </p:nvSpPr>
        <p:spPr>
          <a:xfrm>
            <a:off x="3730680" y="2071800"/>
            <a:ext cx="4935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33334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20"/>
          <p:cNvSpPr/>
          <p:nvPr/>
        </p:nvSpPr>
        <p:spPr>
          <a:xfrm>
            <a:off x="9000" y="5286240"/>
            <a:ext cx="481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33334d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1"/>
          <p:cNvSpPr/>
          <p:nvPr/>
        </p:nvSpPr>
        <p:spPr>
          <a:xfrm>
            <a:off x="651960" y="4572000"/>
            <a:ext cx="481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33334d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23"/>
          <p:cNvSpPr/>
          <p:nvPr/>
        </p:nvSpPr>
        <p:spPr>
          <a:xfrm>
            <a:off x="365760" y="4929120"/>
            <a:ext cx="405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33334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27"/>
          <p:cNvSpPr/>
          <p:nvPr/>
        </p:nvSpPr>
        <p:spPr>
          <a:xfrm>
            <a:off x="3857760" y="2428920"/>
            <a:ext cx="602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33334d"/>
                </a:solidFill>
                <a:latin typeface="Times New Roman"/>
              </a:rPr>
              <a:t>11</a:t>
            </a: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28"/>
          <p:cNvSpPr/>
          <p:nvPr/>
        </p:nvSpPr>
        <p:spPr>
          <a:xfrm>
            <a:off x="2500200" y="2428920"/>
            <a:ext cx="602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33334d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29"/>
          <p:cNvSpPr/>
          <p:nvPr/>
        </p:nvSpPr>
        <p:spPr>
          <a:xfrm>
            <a:off x="2714760" y="1643040"/>
            <a:ext cx="602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33334d"/>
                </a:solidFill>
                <a:latin typeface="Times New Roman"/>
              </a:rPr>
              <a:t>11</a:t>
            </a:r>
            <a:r>
              <a:rPr b="0" lang="ru-RU" sz="2400" spc="-1" strike="noStrike">
                <a:solidFill>
                  <a:srgbClr val="3333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2"/>
          <p:cNvGraphicFramePr/>
          <p:nvPr/>
        </p:nvGraphicFramePr>
        <p:xfrm>
          <a:off x="500040" y="500040"/>
          <a:ext cx="1212480" cy="12697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500040"/>
                    <a:ext cx="121248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3"/>
          <p:cNvGraphicFramePr/>
          <p:nvPr/>
        </p:nvGraphicFramePr>
        <p:xfrm>
          <a:off x="5143680" y="1714320"/>
          <a:ext cx="2777760" cy="9284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4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3680" y="1714320"/>
                    <a:ext cx="277776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Object 4"/>
          <p:cNvGraphicFramePr/>
          <p:nvPr/>
        </p:nvGraphicFramePr>
        <p:xfrm>
          <a:off x="5000760" y="2928960"/>
          <a:ext cx="4142880" cy="15714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49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2928960"/>
                    <a:ext cx="414288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Box 35"/>
          <p:cNvSpPr/>
          <p:nvPr/>
        </p:nvSpPr>
        <p:spPr>
          <a:xfrm>
            <a:off x="1770120" y="571320"/>
            <a:ext cx="5771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возрастающая арифмет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6"/>
          <p:cNvSpPr/>
          <p:nvPr/>
        </p:nvSpPr>
        <p:spPr>
          <a:xfrm>
            <a:off x="1810440" y="1214280"/>
            <a:ext cx="5443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убывающая арифметическая прог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5"/>
          <p:cNvGraphicFramePr/>
          <p:nvPr/>
        </p:nvGraphicFramePr>
        <p:xfrm>
          <a:off x="214200" y="6000840"/>
          <a:ext cx="4071600" cy="11124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49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200" y="6000840"/>
                    <a:ext cx="4071600" cy="111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Прямоугольник 39"/>
          <p:cNvSpPr/>
          <p:nvPr/>
        </p:nvSpPr>
        <p:spPr>
          <a:xfrm>
            <a:off x="4357800" y="5715000"/>
            <a:ext cx="4643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: на курс лечения потребуется 411 капель лек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Управляющая кнопка: настраиваемая 41">
            <a:hlinkClick r:id="rId9" action="ppaction://hlinksldjump"/>
          </p:cNvPr>
          <p:cNvSpPr/>
          <p:nvPr/>
        </p:nvSpPr>
        <p:spPr>
          <a:xfrm>
            <a:off x="7358040" y="4929120"/>
            <a:ext cx="1785600" cy="428400"/>
          </a:xfrm>
          <a:prstGeom prst="actionButtonBlank">
            <a:avLst/>
          </a:prstGeom>
          <a:solidFill>
            <a:schemeClr val="tx2">
              <a:lumMod val="75000"/>
            </a:schemeClr>
          </a:solidFill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 Unicode MS"/>
                <a:ea typeface="Arial Unicode MS"/>
                <a:hlinkClick r:id="rId10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2"/>
          <p:cNvSpPr/>
          <p:nvPr/>
        </p:nvSpPr>
        <p:spPr>
          <a:xfrm>
            <a:off x="214200" y="0"/>
            <a:ext cx="87152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Химико-биологический профиль. Решение задач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00040" y="1000080"/>
            <a:ext cx="4142880" cy="228564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AutoShape 3"/>
          <p:cNvSpPr/>
          <p:nvPr/>
        </p:nvSpPr>
        <p:spPr>
          <a:xfrm>
            <a:off x="500040" y="1000080"/>
            <a:ext cx="4142880" cy="2285640"/>
          </a:xfrm>
          <a:prstGeom prst="flowChartDecision">
            <a:avLst/>
          </a:prstGeom>
          <a:solidFill>
            <a:schemeClr val="bg2">
              <a:lumMod val="20000"/>
              <a:lumOff val="8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1500120" y="1571760"/>
            <a:ext cx="2142720" cy="109296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1500120" y="1571760"/>
            <a:ext cx="2071440" cy="1071360"/>
          </a:xfrm>
          <a:prstGeom prst="flowChartDecision">
            <a:avLst/>
          </a:prstGeom>
          <a:solidFill>
            <a:schemeClr val="bg2">
              <a:lumMod val="20000"/>
              <a:lumOff val="8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2000160" y="1857240"/>
            <a:ext cx="1071360" cy="49968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Блок-схема: решение 5"/>
          <p:cNvSpPr/>
          <p:nvPr/>
        </p:nvSpPr>
        <p:spPr>
          <a:xfrm>
            <a:off x="2000160" y="1857240"/>
            <a:ext cx="1071360" cy="496440"/>
          </a:xfrm>
          <a:prstGeom prst="flowChartDecision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eaeaea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09" name="TextBox 7"/>
          <p:cNvSpPr/>
          <p:nvPr/>
        </p:nvSpPr>
        <p:spPr>
          <a:xfrm>
            <a:off x="145440" y="1857240"/>
            <a:ext cx="338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35354d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8"/>
          <p:cNvSpPr/>
          <p:nvPr/>
        </p:nvSpPr>
        <p:spPr>
          <a:xfrm>
            <a:off x="2145240" y="428760"/>
            <a:ext cx="359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35354d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Object 2"/>
          <p:cNvGraphicFramePr/>
          <p:nvPr/>
        </p:nvGraphicFramePr>
        <p:xfrm>
          <a:off x="5429160" y="714240"/>
          <a:ext cx="2258640" cy="6346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5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9160" y="714240"/>
                    <a:ext cx="225864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3"/>
          <p:cNvGraphicFramePr/>
          <p:nvPr/>
        </p:nvGraphicFramePr>
        <p:xfrm>
          <a:off x="5500800" y="1357200"/>
          <a:ext cx="2217240" cy="9838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5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0800" y="1357200"/>
                    <a:ext cx="2217240" cy="98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Прямоугольник 11"/>
          <p:cNvSpPr/>
          <p:nvPr/>
        </p:nvSpPr>
        <p:spPr>
          <a:xfrm>
            <a:off x="785880" y="0"/>
            <a:ext cx="8000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Физико-математический профиль. Решение задач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Прямая соединительная линия 13"/>
          <p:cNvCxnSpPr>
            <a:endCxn id="504" idx="3"/>
          </p:cNvCxnSpPr>
          <p:nvPr/>
        </p:nvCxnSpPr>
        <p:spPr>
          <a:xfrm>
            <a:off x="499680" y="2143080"/>
            <a:ext cx="4143960" cy="360"/>
          </a:xfrm>
          <a:prstGeom prst="straightConnector1">
            <a:avLst/>
          </a:prstGeom>
          <a:ln w="28575">
            <a:solidFill>
              <a:srgbClr val="00cc66">
                <a:lumMod val="50000"/>
              </a:srgbClr>
            </a:solidFill>
            <a:round/>
          </a:ln>
        </p:spPr>
      </p:cxnSp>
      <p:cxnSp>
        <p:nvCxnSpPr>
          <p:cNvPr id="517" name="Прямая соединительная линия 15"/>
          <p:cNvCxnSpPr>
            <a:endCxn id="504" idx="2"/>
          </p:cNvCxnSpPr>
          <p:nvPr/>
        </p:nvCxnSpPr>
        <p:spPr>
          <a:xfrm>
            <a:off x="2571480" y="1000080"/>
            <a:ext cx="360" cy="2286360"/>
          </a:xfrm>
          <a:prstGeom prst="straightConnector1">
            <a:avLst/>
          </a:prstGeom>
          <a:ln w="28575">
            <a:solidFill>
              <a:srgbClr val="00cc66">
                <a:lumMod val="50000"/>
              </a:srgbClr>
            </a:solidFill>
            <a:round/>
          </a:ln>
        </p:spPr>
      </p:cxnSp>
      <p:sp>
        <p:nvSpPr>
          <p:cNvPr id="518" name="TextBox 18"/>
          <p:cNvSpPr/>
          <p:nvPr/>
        </p:nvSpPr>
        <p:spPr>
          <a:xfrm>
            <a:off x="214200" y="3357720"/>
            <a:ext cx="8500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Восьмая по счёту фигура – ромб. Площади образуют геометрическую прогрессию </a:t>
            </a:r>
            <a:r>
              <a:rPr b="0" lang="en-US" sz="2400" spc="-1" strike="noStrike">
                <a:solidFill>
                  <a:srgbClr val="171717"/>
                </a:solidFill>
                <a:latin typeface="Times New Roman"/>
              </a:rPr>
              <a:t>q=</a:t>
            </a:r>
            <a:r>
              <a:rPr b="0" lang="ru-RU" sz="2400" spc="-1" strike="noStrike">
                <a:solidFill>
                  <a:srgbClr val="171717"/>
                </a:solidFill>
                <a:latin typeface="Times New Roman"/>
              </a:rPr>
              <a:t>1/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Object 94"/>
          <p:cNvGraphicFramePr/>
          <p:nvPr/>
        </p:nvGraphicFramePr>
        <p:xfrm>
          <a:off x="285840" y="4143240"/>
          <a:ext cx="4643280" cy="12855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520" name="Object 9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840" y="4143240"/>
                    <a:ext cx="4643280" cy="12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Управляющая кнопка: настраиваемая 21">
            <a:hlinkClick r:id="rId7" action="ppaction://hlinksldjump"/>
          </p:cNvPr>
          <p:cNvSpPr/>
          <p:nvPr/>
        </p:nvSpPr>
        <p:spPr>
          <a:xfrm>
            <a:off x="6643800" y="5214960"/>
            <a:ext cx="1785600" cy="428400"/>
          </a:xfrm>
          <a:prstGeom prst="actionButtonBlank">
            <a:avLst/>
          </a:prstGeom>
          <a:solidFill>
            <a:schemeClr val="tx2">
              <a:lumMod val="75000"/>
            </a:schemeClr>
          </a:solidFill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 Unicode MS"/>
                <a:ea typeface="Arial Unicode MS"/>
                <a:hlinkClick r:id="rId8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2"/>
          <p:cNvSpPr/>
          <p:nvPr/>
        </p:nvSpPr>
        <p:spPr>
          <a:xfrm>
            <a:off x="226800" y="5357880"/>
            <a:ext cx="262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Решение задач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94"/>
          <p:cNvGraphicFramePr/>
          <p:nvPr/>
        </p:nvGraphicFramePr>
        <p:xfrm>
          <a:off x="3071880" y="5429160"/>
          <a:ext cx="3071520" cy="12139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524" name="Object 9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1880" y="5429160"/>
                    <a:ext cx="3071520" cy="121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7"/>
          <p:cNvGraphicFramePr/>
          <p:nvPr/>
        </p:nvGraphicFramePr>
        <p:xfrm>
          <a:off x="4714920" y="2254320"/>
          <a:ext cx="4214520" cy="98388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52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4920" y="2254320"/>
                    <a:ext cx="4214520" cy="98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5"/>
          <p:cNvSpPr/>
          <p:nvPr/>
        </p:nvSpPr>
        <p:spPr>
          <a:xfrm>
            <a:off x="357120" y="714240"/>
            <a:ext cx="83721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171717"/>
              </a:buClr>
              <a:buFont typeface="StarSymbol"/>
              <a:buAutoNum type="arabicParenR"/>
            </a:pP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Воспользуйтесь формулой разности квадр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(50-49)(50+49) + (48-47)(48+47) + (46-45)(46+45) +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                                                   …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+  (4-3)(4+3) + (2-1)(2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285840" y="2500200"/>
            <a:ext cx="8445240" cy="203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171717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171717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171717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Выполните действия в скобка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171717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99 + 95 + 91 + 87 +… + 7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эти числа образуют убывающую арифметическую прогресс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171717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171717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171717"/>
                </a:solidFill>
                <a:latin typeface="Arial"/>
              </a:rPr>
              <a:t>=99</a:t>
            </a:r>
            <a:r>
              <a:rPr b="0" i="1" lang="ru-RU" sz="2800" spc="-1" strike="noStrike">
                <a:solidFill>
                  <a:srgbClr val="171717"/>
                </a:solidFill>
                <a:latin typeface="Arial"/>
              </a:rPr>
              <a:t>,  </a:t>
            </a:r>
            <a:r>
              <a:rPr b="0" i="1" lang="en-US" sz="2800" spc="-1" strike="noStrike">
                <a:solidFill>
                  <a:srgbClr val="171717"/>
                </a:solidFill>
                <a:latin typeface="Arial"/>
              </a:rPr>
              <a:t> a</a:t>
            </a:r>
            <a:r>
              <a:rPr b="0" i="1" lang="en-US" sz="2800" spc="-1" strike="noStrike" baseline="-25000">
                <a:solidFill>
                  <a:srgbClr val="171717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171717"/>
                </a:solidFill>
                <a:latin typeface="Arial"/>
              </a:rPr>
              <a:t>=3</a:t>
            </a:r>
            <a:r>
              <a:rPr b="0" i="1" lang="ru-RU" sz="2800" spc="-1" strike="noStrike">
                <a:solidFill>
                  <a:srgbClr val="171717"/>
                </a:solidFill>
                <a:latin typeface="Arial"/>
              </a:rPr>
              <a:t>,   </a:t>
            </a:r>
            <a:r>
              <a:rPr b="0" i="1" lang="en-US" sz="2800" spc="-1" strike="noStrike">
                <a:solidFill>
                  <a:srgbClr val="171717"/>
                </a:solidFill>
                <a:latin typeface="Arial"/>
              </a:rPr>
              <a:t>n=25</a:t>
            </a:r>
            <a:r>
              <a:rPr b="0" i="1" lang="ru-RU" sz="2800" spc="-1" strike="noStrike">
                <a:solidFill>
                  <a:srgbClr val="171717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Object 2"/>
          <p:cNvGraphicFramePr/>
          <p:nvPr/>
        </p:nvGraphicFramePr>
        <p:xfrm>
          <a:off x="642960" y="4643280"/>
          <a:ext cx="2571480" cy="9284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643280"/>
                    <a:ext cx="25714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3"/>
          <p:cNvGraphicFramePr/>
          <p:nvPr/>
        </p:nvGraphicFramePr>
        <p:xfrm>
          <a:off x="3773520" y="4643280"/>
          <a:ext cx="4870080" cy="9997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5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73520" y="4643280"/>
                    <a:ext cx="4870080" cy="99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Text Box 9"/>
          <p:cNvSpPr/>
          <p:nvPr/>
        </p:nvSpPr>
        <p:spPr>
          <a:xfrm>
            <a:off x="1285920" y="6000840"/>
            <a:ext cx="5487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вет: сумма равна 127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3437640" y="214200"/>
            <a:ext cx="159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171717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Управляющая кнопка: настраиваемая 8">
            <a:hlinkClick r:id="rId5" action="ppaction://hlinksldjump"/>
          </p:cNvPr>
          <p:cNvSpPr/>
          <p:nvPr/>
        </p:nvSpPr>
        <p:spPr>
          <a:xfrm>
            <a:off x="6858000" y="5786280"/>
            <a:ext cx="1785600" cy="428400"/>
          </a:xfrm>
          <a:prstGeom prst="actionButtonBlank">
            <a:avLst/>
          </a:prstGeom>
          <a:solidFill>
            <a:schemeClr val="tx2">
              <a:lumMod val="75000"/>
            </a:schemeClr>
          </a:solidFill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 Unicode MS"/>
                <a:ea typeface="Arial Unicode MS"/>
                <a:hlinkClick r:id="rId6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3437640" y="214200"/>
            <a:ext cx="159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171717"/>
                </a:solidFill>
                <a:latin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3071880" y="285840"/>
            <a:ext cx="2285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0" y="647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TextBox 12"/>
          <p:cNvSpPr/>
          <p:nvPr/>
        </p:nvSpPr>
        <p:spPr>
          <a:xfrm>
            <a:off x="392400" y="857160"/>
            <a:ext cx="86742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Рассмотрим арифметическую прогресс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171717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171717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171717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 х+248;</a:t>
            </a:r>
            <a:r>
              <a:rPr b="0" lang="en-US" sz="28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71717"/>
                </a:solidFill>
                <a:latin typeface="Arial"/>
              </a:rPr>
              <a:t> a</a:t>
            </a:r>
            <a:r>
              <a:rPr b="0" lang="en-US" sz="2800" spc="-1" strike="noStrike" baseline="-25000">
                <a:solidFill>
                  <a:srgbClr val="171717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171717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 х+</a:t>
            </a:r>
            <a:r>
              <a:rPr b="0" lang="en-US" sz="2800" spc="-1" strike="noStrike">
                <a:solidFill>
                  <a:srgbClr val="171717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;    </a:t>
            </a:r>
            <a:r>
              <a:rPr b="0" lang="en-US" sz="2800" spc="-1" strike="noStrike">
                <a:solidFill>
                  <a:srgbClr val="171717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171717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171717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71717"/>
                </a:solidFill>
                <a:latin typeface="Arial"/>
              </a:rPr>
              <a:t>6225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171717"/>
                </a:solidFill>
                <a:latin typeface="Arial"/>
              </a:rPr>
              <a:t> n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=?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Найти: 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357120" y="2714760"/>
            <a:ext cx="83721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1) Найдём  разность:   </a:t>
            </a:r>
            <a:r>
              <a:rPr b="0" i="1" lang="en-US" sz="2400" spc="-1" strike="noStrike">
                <a:solidFill>
                  <a:srgbClr val="171717"/>
                </a:solidFill>
                <a:latin typeface="Arial"/>
              </a:rPr>
              <a:t>d=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171717"/>
                </a:solidFill>
                <a:latin typeface="Arial"/>
              </a:rPr>
              <a:t>5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17171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8"/>
          <p:cNvSpPr/>
          <p:nvPr/>
        </p:nvSpPr>
        <p:spPr>
          <a:xfrm>
            <a:off x="357120" y="3286080"/>
            <a:ext cx="54288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2) Найдём  </a:t>
            </a:r>
            <a:r>
              <a:rPr b="0" i="1" lang="en-US" sz="2400" spc="-1" strike="noStrike">
                <a:solidFill>
                  <a:srgbClr val="171717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:   </a:t>
            </a:r>
            <a:r>
              <a:rPr b="0" i="1" lang="en-US" sz="24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d(n-1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х+248 – 5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= 50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9"/>
          <p:cNvSpPr/>
          <p:nvPr/>
        </p:nvSpPr>
        <p:spPr>
          <a:xfrm>
            <a:off x="359640" y="4929120"/>
            <a:ext cx="537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Arial"/>
              </a:rPr>
              <a:t>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4"/>
          <p:cNvGraphicFramePr/>
          <p:nvPr/>
        </p:nvGraphicFramePr>
        <p:xfrm>
          <a:off x="1071360" y="4714920"/>
          <a:ext cx="2571480" cy="9284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5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360" y="4714920"/>
                    <a:ext cx="25714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5"/>
          <p:cNvGraphicFramePr/>
          <p:nvPr/>
        </p:nvGraphicFramePr>
        <p:xfrm>
          <a:off x="4500720" y="4714920"/>
          <a:ext cx="3522240" cy="9284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5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714920"/>
                    <a:ext cx="352224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Прямоугольник 22"/>
          <p:cNvSpPr/>
          <p:nvPr/>
        </p:nvSpPr>
        <p:spPr>
          <a:xfrm>
            <a:off x="2007360" y="5929200"/>
            <a:ext cx="2275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: х =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Управляющая кнопка: настраиваемая 23">
            <a:hlinkClick r:id="rId5" action="ppaction://hlinksldjump"/>
          </p:cNvPr>
          <p:cNvSpPr/>
          <p:nvPr/>
        </p:nvSpPr>
        <p:spPr>
          <a:xfrm>
            <a:off x="6715080" y="6143760"/>
            <a:ext cx="1785600" cy="428400"/>
          </a:xfrm>
          <a:prstGeom prst="actionButtonBlank">
            <a:avLst/>
          </a:prstGeom>
          <a:solidFill>
            <a:schemeClr val="tx2">
              <a:lumMod val="75000"/>
            </a:schemeClr>
          </a:solidFill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65b2ff"/>
                </a:solidFill>
                <a:uFillTx/>
                <a:latin typeface="Arial Unicode MS"/>
                <a:ea typeface="Arial Unicode MS"/>
                <a:hlinkClick r:id="rId6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14200" y="2500200"/>
            <a:ext cx="8596080" cy="285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8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4873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1d2e"/>
                </a:solidFill>
                <a:latin typeface="Times New Roman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35354d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35354d"/>
                </a:solidFill>
                <a:latin typeface="Times New Roman"/>
              </a:rPr>
              <a:t>Систематизировать знания по 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1d2e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001d2e"/>
                </a:solidFill>
                <a:latin typeface="Times New Roman"/>
              </a:rPr>
              <a:t>арифметическая и геометрическая прогр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1d2e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1d2e"/>
                </a:solidFill>
                <a:latin typeface="Times New Roman"/>
              </a:rPr>
              <a:t>Применять теоретические знания и формулы п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1d2e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1d2e"/>
                </a:solidFill>
                <a:latin typeface="Times New Roman"/>
              </a:rPr>
              <a:t>решении задач с практическим содержа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1d2e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1d2e"/>
                </a:solidFill>
                <a:latin typeface="Times New Roman"/>
              </a:rPr>
              <a:t>Решение заданий для подготовки к ОГЭ</a:t>
            </a:r>
            <a:r>
              <a:rPr b="0" i="1" lang="ru-RU" sz="3200" spc="-1" strike="noStrike">
                <a:solidFill>
                  <a:srgbClr val="001d2e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9"/>
          <p:cNvSpPr/>
          <p:nvPr/>
        </p:nvSpPr>
        <p:spPr>
          <a:xfrm>
            <a:off x="1585440" y="285840"/>
            <a:ext cx="559404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4d4d73"/>
                </a:solidFill>
                <a:latin typeface="Times New Roman"/>
              </a:rPr>
              <a:t>Арифметическая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4d4d73"/>
                </a:solidFill>
                <a:latin typeface="Times New Roman"/>
              </a:rPr>
              <a:t>геометрическ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4d4d73"/>
                </a:solidFill>
                <a:latin typeface="Times New Roman"/>
              </a:rPr>
              <a:t>прогре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821520" y="5929200"/>
            <a:ext cx="6828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анчик С.В. ГАОУ «Лицей-интернат 64» г. Са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3"/>
          <p:cNvSpPr/>
          <p:nvPr/>
        </p:nvSpPr>
        <p:spPr>
          <a:xfrm>
            <a:off x="755640" y="3573360"/>
            <a:ext cx="705600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171717"/>
                </a:solidFill>
                <a:latin typeface="Arial"/>
              </a:rPr>
              <a:t>.</a:t>
            </a:r>
            <a:r>
              <a:rPr b="0" i="1" lang="en-US" sz="28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171717"/>
                </a:solidFill>
                <a:latin typeface="Arial"/>
              </a:rPr>
              <a:t>Укажите формулу </a:t>
            </a:r>
            <a:r>
              <a:rPr b="0" i="1" lang="en-US" sz="2800" spc="-1" strike="noStrike">
                <a:solidFill>
                  <a:srgbClr val="171717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171717"/>
                </a:solidFill>
                <a:latin typeface="Arial"/>
              </a:rPr>
              <a:t>- го члена арифметической прогре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2"/>
          <p:cNvSpPr/>
          <p:nvPr/>
        </p:nvSpPr>
        <p:spPr>
          <a:xfrm>
            <a:off x="808200" y="3638520"/>
            <a:ext cx="650052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171717"/>
                </a:solidFill>
                <a:latin typeface="Times New Roman"/>
              </a:rPr>
              <a:t>4. Укажите формулу </a:t>
            </a:r>
            <a:r>
              <a:rPr b="0" i="1" lang="en-US" sz="2800" spc="-1" strike="noStrike">
                <a:solidFill>
                  <a:srgbClr val="171717"/>
                </a:solidFill>
                <a:latin typeface="Times New Roman"/>
              </a:rPr>
              <a:t>n-</a:t>
            </a:r>
            <a:r>
              <a:rPr b="0" i="1" lang="ru-RU" sz="2800" spc="-1" strike="noStrike">
                <a:solidFill>
                  <a:srgbClr val="171717"/>
                </a:solidFill>
                <a:latin typeface="Times New Roman"/>
              </a:rPr>
              <a:t>го члена геометрической прогре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24000" y="189000"/>
            <a:ext cx="856908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3a3a3a"/>
                </a:solidFill>
                <a:latin typeface="Arial"/>
              </a:rPr>
              <a:t>.    Одна из двух данных последовательностей является арифметической прогрессией, другая – геометрической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95280" y="1773360"/>
            <a:ext cx="21762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35354d"/>
                </a:solidFill>
                <a:latin typeface="Arial"/>
              </a:rPr>
              <a:t>-15; -12; -9;</a:t>
            </a:r>
            <a:r>
              <a:rPr b="0" lang="ru-RU" sz="2800" spc="-1" strike="noStrike">
                <a:solidFill>
                  <a:srgbClr val="35354d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flipH="1">
            <a:off x="3347280" y="2708280"/>
            <a:ext cx="183960" cy="25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4717440" y="3500280"/>
            <a:ext cx="245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2357280" y="1785960"/>
            <a:ext cx="4392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35354d"/>
                </a:solidFill>
                <a:latin typeface="Arial"/>
              </a:rPr>
              <a:t>-6; -3; 0;…</a:t>
            </a:r>
            <a:r>
              <a:rPr b="0" lang="en-US" sz="2800" spc="-1" strike="noStrike">
                <a:solidFill>
                  <a:srgbClr val="35354d"/>
                </a:solidFill>
                <a:latin typeface="Arial"/>
              </a:rPr>
              <a:t>       d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71320" y="2286000"/>
            <a:ext cx="1785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35354d"/>
                </a:solidFill>
                <a:latin typeface="Arial"/>
              </a:rPr>
              <a:t>32; 16; 8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1835280" y="2708280"/>
            <a:ext cx="576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endParaRPr b="0" lang="ru-RU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2214720" y="2286000"/>
            <a:ext cx="4608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35354d"/>
                </a:solidFill>
                <a:latin typeface="Arial"/>
              </a:rPr>
              <a:t>4; 2; 1;…</a:t>
            </a:r>
            <a:r>
              <a:rPr b="0" lang="en-US" sz="2800" spc="-1" strike="noStrike">
                <a:solidFill>
                  <a:srgbClr val="35354d"/>
                </a:solidFill>
                <a:latin typeface="Arial"/>
              </a:rPr>
              <a:t>          q=1/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755640" y="2852640"/>
            <a:ext cx="806400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i="1" lang="en-US" sz="28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171717"/>
                </a:solidFill>
                <a:latin typeface="Arial"/>
              </a:rPr>
              <a:t>Продолжите каждую из этих прогрессий и назовите следующие три её ч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468360" y="4437000"/>
            <a:ext cx="3889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28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97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29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9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30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01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31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03" name="Object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32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05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33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307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36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309" name="Object 3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37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311" name="Object 3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41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313" name="Object 4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Text Box 44"/>
          <p:cNvSpPr/>
          <p:nvPr/>
        </p:nvSpPr>
        <p:spPr>
          <a:xfrm>
            <a:off x="1042920" y="4365720"/>
            <a:ext cx="2952360" cy="230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 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-3n-1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n-1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n-1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-3n+1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4695840" y="4214880"/>
            <a:ext cx="1839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Text Box 55"/>
          <p:cNvSpPr/>
          <p:nvPr/>
        </p:nvSpPr>
        <p:spPr>
          <a:xfrm>
            <a:off x="4716360" y="4365720"/>
            <a:ext cx="5792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6"/>
          <p:cNvGraphicFramePr/>
          <p:nvPr/>
        </p:nvGraphicFramePr>
        <p:xfrm>
          <a:off x="5313240" y="4292640"/>
          <a:ext cx="1117080" cy="78696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318" name="Object 5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13240" y="4292640"/>
                    <a:ext cx="1117080" cy="78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 Box 57"/>
          <p:cNvSpPr/>
          <p:nvPr/>
        </p:nvSpPr>
        <p:spPr>
          <a:xfrm>
            <a:off x="4788000" y="5445000"/>
            <a:ext cx="1657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58"/>
          <p:cNvGraphicFramePr/>
          <p:nvPr/>
        </p:nvGraphicFramePr>
        <p:xfrm>
          <a:off x="5313240" y="5373720"/>
          <a:ext cx="1271160" cy="78876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321" name="Object 5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13240" y="5373720"/>
                    <a:ext cx="127116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59"/>
          <p:cNvSpPr/>
          <p:nvPr/>
        </p:nvSpPr>
        <p:spPr>
          <a:xfrm>
            <a:off x="6732720" y="4365720"/>
            <a:ext cx="9680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60"/>
          <p:cNvGraphicFramePr/>
          <p:nvPr/>
        </p:nvGraphicFramePr>
        <p:xfrm>
          <a:off x="7184880" y="4292640"/>
          <a:ext cx="1777680" cy="78696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324" name="Object 6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84880" y="4292640"/>
                    <a:ext cx="1777680" cy="78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61"/>
          <p:cNvSpPr/>
          <p:nvPr/>
        </p:nvSpPr>
        <p:spPr>
          <a:xfrm>
            <a:off x="6784920" y="5295960"/>
            <a:ext cx="23587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62"/>
          <p:cNvGraphicFramePr/>
          <p:nvPr/>
        </p:nvGraphicFramePr>
        <p:xfrm>
          <a:off x="7257960" y="5373720"/>
          <a:ext cx="1623600" cy="482400"/>
        </p:xfrm>
        <a:graphic>
          <a:graphicData uri="http://schemas.openxmlformats.org/presentationml/2006/ole">
            <p:oleObj progId="Equation.3" r:id="rId25" spid="">
              <p:embed/>
              <p:pic>
                <p:nvPicPr>
                  <p:cNvPr id="327" name="Object 6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257960" y="5373720"/>
                    <a:ext cx="16236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154"/>
          <p:cNvSpPr/>
          <p:nvPr/>
        </p:nvSpPr>
        <p:spPr>
          <a:xfrm>
            <a:off x="735120" y="4581360"/>
            <a:ext cx="72925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171717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.Является ли число 72 членом данной прогре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55"/>
          <p:cNvSpPr/>
          <p:nvPr/>
        </p:nvSpPr>
        <p:spPr>
          <a:xfrm>
            <a:off x="4284720" y="5300640"/>
            <a:ext cx="1839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Text Box 156"/>
          <p:cNvSpPr/>
          <p:nvPr/>
        </p:nvSpPr>
        <p:spPr>
          <a:xfrm>
            <a:off x="3903840" y="5033880"/>
            <a:ext cx="218088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2=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3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57"/>
          <p:cNvGraphicFramePr/>
          <p:nvPr/>
        </p:nvGraphicFramePr>
        <p:xfrm>
          <a:off x="5219640" y="5665680"/>
          <a:ext cx="786960" cy="355320"/>
        </p:xfrm>
        <a:graphic>
          <a:graphicData uri="http://schemas.openxmlformats.org/presentationml/2006/ole">
            <p:oleObj progId="Equation.3" r:id="rId27" spid="">
              <p:embed/>
              <p:pic>
                <p:nvPicPr>
                  <p:cNvPr id="332" name="Object 15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19640" y="5665680"/>
                    <a:ext cx="7869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214200"/>
            <a:ext cx="89294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3a3a3a"/>
                </a:solidFill>
                <a:latin typeface="Arial"/>
              </a:rPr>
              <a:t>5</a:t>
            </a:r>
            <a:r>
              <a:rPr b="0" i="1" lang="ru-RU" sz="2800" spc="-1" strike="noStrike">
                <a:solidFill>
                  <a:srgbClr val="3a3a3a"/>
                </a:solidFill>
                <a:latin typeface="Arial"/>
              </a:rPr>
              <a:t>.  Фигуры составлены из квадратов, как показано на рисунк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84360" y="1484280"/>
            <a:ext cx="3384360" cy="136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171717"/>
                </a:solidFill>
                <a:latin typeface="Times New Roman"/>
              </a:rPr>
              <a:t>а) Сколько квадратов в 15-ой строке ?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836000" y="2714760"/>
            <a:ext cx="504360" cy="539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826920" y="270828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332000" y="321300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Rectangle 8"/>
          <p:cNvSpPr/>
          <p:nvPr/>
        </p:nvSpPr>
        <p:spPr>
          <a:xfrm rot="10800000">
            <a:off x="1835640" y="321372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340000" y="3213000"/>
            <a:ext cx="502920" cy="50292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2843280" y="3213000"/>
            <a:ext cx="504360" cy="50436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1332000" y="371628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826920" y="321300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1835280" y="371628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2340000" y="371628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2843280" y="371628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348000" y="3716280"/>
            <a:ext cx="504360" cy="50436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3851280" y="3716280"/>
            <a:ext cx="504360" cy="50436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826920" y="371628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Text Box 19"/>
          <p:cNvSpPr/>
          <p:nvPr/>
        </p:nvSpPr>
        <p:spPr>
          <a:xfrm>
            <a:off x="469080" y="2781360"/>
            <a:ext cx="309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a3a3a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468360" y="3284640"/>
            <a:ext cx="215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ru-RU" sz="2000" spc="-1" strike="noStrike">
                <a:solidFill>
                  <a:srgbClr val="3a3a3a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468360" y="3789360"/>
            <a:ext cx="576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ru-RU" sz="2000" spc="-1" strike="noStrike">
                <a:solidFill>
                  <a:srgbClr val="3a3a3a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468360" y="4292640"/>
            <a:ext cx="36000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ru-RU" sz="2000" spc="-1" strike="noStrike">
                <a:solidFill>
                  <a:srgbClr val="3a3a3a"/>
                </a:solidFill>
                <a:latin typeface="Times New Roman"/>
              </a:rPr>
              <a:t>4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4716360" y="1484280"/>
            <a:ext cx="367308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171717"/>
                </a:solidFill>
                <a:latin typeface="Times New Roman"/>
              </a:rPr>
              <a:t>б) Сколько квадр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171717"/>
                </a:solidFill>
                <a:latin typeface="Times New Roman"/>
              </a:rPr>
              <a:t>11-ом столбце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0"/>
          <p:cNvSpPr/>
          <p:nvPr/>
        </p:nvSpPr>
        <p:spPr>
          <a:xfrm>
            <a:off x="4932360" y="2492280"/>
            <a:ext cx="388728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0" lang="ru-RU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8172360" y="3500280"/>
            <a:ext cx="504360" cy="50436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43"/>
          <p:cNvSpPr/>
          <p:nvPr/>
        </p:nvSpPr>
        <p:spPr>
          <a:xfrm>
            <a:off x="8172360" y="2997360"/>
            <a:ext cx="504360" cy="50436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Rectangle 44"/>
          <p:cNvSpPr/>
          <p:nvPr/>
        </p:nvSpPr>
        <p:spPr>
          <a:xfrm>
            <a:off x="8172360" y="501336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Rectangle 45"/>
          <p:cNvSpPr/>
          <p:nvPr/>
        </p:nvSpPr>
        <p:spPr>
          <a:xfrm>
            <a:off x="8172360" y="400536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Rectangle 46"/>
          <p:cNvSpPr/>
          <p:nvPr/>
        </p:nvSpPr>
        <p:spPr>
          <a:xfrm>
            <a:off x="8172360" y="450864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48"/>
          <p:cNvSpPr/>
          <p:nvPr/>
        </p:nvSpPr>
        <p:spPr>
          <a:xfrm>
            <a:off x="8172360" y="2492280"/>
            <a:ext cx="504360" cy="50436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Rectangle 56"/>
          <p:cNvSpPr/>
          <p:nvPr/>
        </p:nvSpPr>
        <p:spPr>
          <a:xfrm>
            <a:off x="24444360" y="911556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Rectangle 61"/>
          <p:cNvSpPr/>
          <p:nvPr/>
        </p:nvSpPr>
        <p:spPr>
          <a:xfrm>
            <a:off x="24949080" y="961884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Rectangle 62"/>
          <p:cNvSpPr/>
          <p:nvPr/>
        </p:nvSpPr>
        <p:spPr>
          <a:xfrm rot="10800000">
            <a:off x="7668000" y="501372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66"/>
          <p:cNvSpPr/>
          <p:nvPr/>
        </p:nvSpPr>
        <p:spPr>
          <a:xfrm>
            <a:off x="25020720" y="969012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Rectangle 67"/>
          <p:cNvSpPr/>
          <p:nvPr/>
        </p:nvSpPr>
        <p:spPr>
          <a:xfrm rot="10800000">
            <a:off x="8173080" y="1989720"/>
            <a:ext cx="504360" cy="50436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Rectangle 68"/>
          <p:cNvSpPr/>
          <p:nvPr/>
        </p:nvSpPr>
        <p:spPr>
          <a:xfrm rot="10800000">
            <a:off x="7668000" y="4509000"/>
            <a:ext cx="504360" cy="50436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Rectangle 69"/>
          <p:cNvSpPr/>
          <p:nvPr/>
        </p:nvSpPr>
        <p:spPr>
          <a:xfrm rot="10800000">
            <a:off x="7668000" y="4005720"/>
            <a:ext cx="504360" cy="50436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0"/>
          <p:cNvSpPr/>
          <p:nvPr/>
        </p:nvSpPr>
        <p:spPr>
          <a:xfrm rot="10800000">
            <a:off x="7164720" y="5013720"/>
            <a:ext cx="504360" cy="504360"/>
          </a:xfrm>
          <a:prstGeom prst="rect">
            <a:avLst/>
          </a:prstGeom>
          <a:solidFill>
            <a:srgbClr val="ffff00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Rectangle 72"/>
          <p:cNvSpPr/>
          <p:nvPr/>
        </p:nvSpPr>
        <p:spPr>
          <a:xfrm rot="10800000">
            <a:off x="8173080" y="551700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00000"/>
              </a:lnSpc>
            </a:pPr>
            <a:endParaRPr b="0" lang="ru-RU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Rectangle 73"/>
          <p:cNvSpPr/>
          <p:nvPr/>
        </p:nvSpPr>
        <p:spPr>
          <a:xfrm>
            <a:off x="7667640" y="551664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Rectangle 74"/>
          <p:cNvSpPr/>
          <p:nvPr/>
        </p:nvSpPr>
        <p:spPr>
          <a:xfrm>
            <a:off x="7164360" y="551664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5"/>
          <p:cNvSpPr/>
          <p:nvPr/>
        </p:nvSpPr>
        <p:spPr>
          <a:xfrm>
            <a:off x="6659640" y="551664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Text Box 76"/>
          <p:cNvSpPr/>
          <p:nvPr/>
        </p:nvSpPr>
        <p:spPr>
          <a:xfrm>
            <a:off x="324000" y="5373720"/>
            <a:ext cx="2936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7"/>
          <p:cNvSpPr/>
          <p:nvPr/>
        </p:nvSpPr>
        <p:spPr>
          <a:xfrm>
            <a:off x="6588000" y="5950080"/>
            <a:ext cx="2555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3a3a3a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a3a3a"/>
                </a:solidFill>
                <a:latin typeface="Times New Roman"/>
              </a:rPr>
              <a:t>1       2      3      4    5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8"/>
          <p:cNvSpPr/>
          <p:nvPr/>
        </p:nvSpPr>
        <p:spPr>
          <a:xfrm>
            <a:off x="4932360" y="2565360"/>
            <a:ext cx="3024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0"/>
          <p:cNvSpPr/>
          <p:nvPr/>
        </p:nvSpPr>
        <p:spPr>
          <a:xfrm>
            <a:off x="395280" y="4896000"/>
            <a:ext cx="86328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 29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1"/>
          <p:cNvSpPr/>
          <p:nvPr/>
        </p:nvSpPr>
        <p:spPr>
          <a:xfrm>
            <a:off x="4840200" y="6237360"/>
            <a:ext cx="10267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512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2"/>
          <p:cNvSpPr/>
          <p:nvPr/>
        </p:nvSpPr>
        <p:spPr>
          <a:xfrm>
            <a:off x="1385280" y="4889520"/>
            <a:ext cx="813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.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3"/>
          <p:cNvSpPr/>
          <p:nvPr/>
        </p:nvSpPr>
        <p:spPr>
          <a:xfrm>
            <a:off x="2411280" y="4889520"/>
            <a:ext cx="936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4"/>
          <p:cNvSpPr/>
          <p:nvPr/>
        </p:nvSpPr>
        <p:spPr>
          <a:xfrm>
            <a:off x="3348000" y="4869000"/>
            <a:ext cx="107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7"/>
          <p:cNvSpPr/>
          <p:nvPr/>
        </p:nvSpPr>
        <p:spPr>
          <a:xfrm>
            <a:off x="5940360" y="6237360"/>
            <a:ext cx="1007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. 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8"/>
          <p:cNvSpPr/>
          <p:nvPr/>
        </p:nvSpPr>
        <p:spPr>
          <a:xfrm>
            <a:off x="7002360" y="6257880"/>
            <a:ext cx="1145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. 1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1"/>
          <p:cNvSpPr/>
          <p:nvPr/>
        </p:nvSpPr>
        <p:spPr>
          <a:xfrm>
            <a:off x="8172360" y="6237360"/>
            <a:ext cx="971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85" name="Object 92"/>
          <p:cNvGraphicFramePr/>
          <p:nvPr/>
        </p:nvGraphicFramePr>
        <p:xfrm>
          <a:off x="420840" y="5429160"/>
          <a:ext cx="2873160" cy="12697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86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429160"/>
                    <a:ext cx="287316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9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88" name="Object 94"/>
          <p:cNvGraphicFramePr/>
          <p:nvPr/>
        </p:nvGraphicFramePr>
        <p:xfrm>
          <a:off x="4500720" y="2571840"/>
          <a:ext cx="2999880" cy="13568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89" name="Object 9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571840"/>
                    <a:ext cx="2999880" cy="1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Rectangle 6"/>
          <p:cNvSpPr/>
          <p:nvPr/>
        </p:nvSpPr>
        <p:spPr>
          <a:xfrm>
            <a:off x="1332000" y="2700000"/>
            <a:ext cx="504360" cy="504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0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755640" y="260280"/>
            <a:ext cx="1839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468360" y="189000"/>
            <a:ext cx="7703640" cy="64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33334d"/>
                </a:solidFill>
                <a:latin typeface="Arial"/>
              </a:rPr>
              <a:t>6</a:t>
            </a:r>
            <a:r>
              <a:rPr b="0" i="1" lang="ru-RU" sz="3200" spc="-1" strike="noStrike">
                <a:solidFill>
                  <a:srgbClr val="33334d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33334d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33334d"/>
                </a:solidFill>
                <a:latin typeface="Arial"/>
              </a:rPr>
              <a:t>а</a:t>
            </a:r>
            <a:r>
              <a:rPr b="0" i="1" lang="en-US" sz="3200" spc="-1" strike="noStrike" baseline="-25000">
                <a:solidFill>
                  <a:srgbClr val="33334d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33334d"/>
                </a:solidFill>
                <a:latin typeface="Arial"/>
              </a:rPr>
              <a:t>) – </a:t>
            </a:r>
            <a:r>
              <a:rPr b="0" i="1" lang="ru-RU" sz="3200" spc="-1" strike="noStrike">
                <a:solidFill>
                  <a:srgbClr val="33334d"/>
                </a:solidFill>
                <a:latin typeface="Arial"/>
              </a:rPr>
              <a:t>арифметическая прогр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519120" y="974880"/>
            <a:ext cx="1839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539640" y="907920"/>
            <a:ext cx="6624360" cy="64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3200" spc="-1" strike="noStrike" baseline="-25000">
                <a:solidFill>
                  <a:srgbClr val="33334d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33334d"/>
                </a:solidFill>
                <a:latin typeface="Times New Roman"/>
              </a:rPr>
              <a:t> = 8,  а</a:t>
            </a:r>
            <a:r>
              <a:rPr b="0" lang="ru-RU" sz="3200" spc="-1" strike="noStrike" baseline="-25000">
                <a:solidFill>
                  <a:srgbClr val="33334d"/>
                </a:solidFill>
                <a:latin typeface="Times New Roman"/>
              </a:rPr>
              <a:t>12</a:t>
            </a:r>
            <a:r>
              <a:rPr b="0" lang="ru-RU" sz="3200" spc="-1" strike="noStrike">
                <a:solidFill>
                  <a:srgbClr val="33334d"/>
                </a:solidFill>
                <a:latin typeface="Times New Roman"/>
              </a:rPr>
              <a:t> = -2.</a:t>
            </a:r>
            <a:r>
              <a:rPr b="0" lang="ru-RU" sz="2800" spc="-1" strike="noStrike">
                <a:solidFill>
                  <a:srgbClr val="33334d"/>
                </a:solidFill>
                <a:latin typeface="Times New Roman"/>
              </a:rPr>
              <a:t>  Найдите </a:t>
            </a:r>
            <a:r>
              <a:rPr b="0" lang="ru-RU" sz="3200" spc="-1" strike="noStrike">
                <a:solidFill>
                  <a:srgbClr val="33334d"/>
                </a:solidFill>
                <a:latin typeface="Times New Roman"/>
              </a:rPr>
              <a:t>а</a:t>
            </a:r>
            <a:r>
              <a:rPr b="0" lang="ru-RU" sz="3200" spc="-1" strike="noStrike" baseline="-25000">
                <a:solidFill>
                  <a:srgbClr val="33334d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950760" y="1773360"/>
            <a:ext cx="7868880" cy="149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171717"/>
                </a:solidFill>
                <a:latin typeface="Times New Roman"/>
              </a:rPr>
              <a:t>Согласно характеристическому свойству арифметической прогре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а</a:t>
            </a:r>
            <a:r>
              <a:rPr b="0" lang="en-US" sz="3200" spc="-1" strike="noStrike" baseline="-25000">
                <a:solidFill>
                  <a:srgbClr val="171717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171717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а</a:t>
            </a:r>
            <a:r>
              <a:rPr b="0" lang="en-US" sz="3200" spc="-1" strike="noStrike" baseline="-25000">
                <a:solidFill>
                  <a:srgbClr val="171717"/>
                </a:solidFill>
                <a:latin typeface="Times New Roman"/>
              </a:rPr>
              <a:t>n+1</a:t>
            </a: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+ а</a:t>
            </a:r>
            <a:r>
              <a:rPr b="0" lang="en-US" sz="3200" spc="-1" strike="noStrike" baseline="-25000">
                <a:solidFill>
                  <a:srgbClr val="171717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171717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17171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;         а</a:t>
            </a:r>
            <a:r>
              <a:rPr b="0" lang="ru-RU" sz="3200" spc="-1" strike="noStrike" baseline="-25000">
                <a:solidFill>
                  <a:srgbClr val="171717"/>
                </a:solidFill>
                <a:latin typeface="Times New Roman"/>
              </a:rPr>
              <a:t>11</a:t>
            </a: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= (8 – 2)/2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971640" y="4365720"/>
            <a:ext cx="1839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826920" y="4221000"/>
            <a:ext cx="1839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214200" y="3571920"/>
            <a:ext cx="8643600" cy="148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171717"/>
                </a:solidFill>
                <a:latin typeface="Arial"/>
              </a:rPr>
              <a:t>8</a:t>
            </a:r>
            <a:r>
              <a:rPr b="0" i="1" lang="ru-RU" sz="2400" spc="-1" strike="noStrike">
                <a:solidFill>
                  <a:srgbClr val="171717"/>
                </a:solidFill>
                <a:latin typeface="Arial"/>
              </a:rPr>
              <a:t>. Найдите неизвестные члены арифметической  прогресс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i="1" lang="ru-RU" sz="2800" spc="-1" strike="noStrike">
                <a:solidFill>
                  <a:srgbClr val="171717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12 ;   а</a:t>
            </a:r>
            <a:r>
              <a:rPr b="0" lang="en-US" sz="2800" spc="-1" strike="noStrike" baseline="-25000">
                <a:solidFill>
                  <a:srgbClr val="171717"/>
                </a:solidFill>
                <a:latin typeface="Arial"/>
              </a:rPr>
              <a:t>n-1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;    а</a:t>
            </a:r>
            <a:r>
              <a:rPr b="0" lang="en-US" sz="2800" spc="-1" strike="noStrike" baseline="-25000">
                <a:solidFill>
                  <a:srgbClr val="171717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 ;    а</a:t>
            </a:r>
            <a:r>
              <a:rPr b="0" lang="en-US" sz="2800" spc="-1" strike="noStrike" baseline="-25000">
                <a:solidFill>
                  <a:srgbClr val="171717"/>
                </a:solidFill>
                <a:latin typeface="Arial"/>
              </a:rPr>
              <a:t>n+1</a:t>
            </a:r>
            <a:r>
              <a:rPr b="0" lang="ru-RU" sz="2800" spc="-1" strike="noStrike">
                <a:solidFill>
                  <a:srgbClr val="171717"/>
                </a:solidFill>
                <a:latin typeface="Arial"/>
              </a:rPr>
              <a:t>;    26;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6"/>
          <p:cNvSpPr/>
          <p:nvPr/>
        </p:nvSpPr>
        <p:spPr>
          <a:xfrm>
            <a:off x="5003640" y="5013000"/>
            <a:ext cx="360" cy="360"/>
          </a:xfrm>
          <a:prstGeom prst="line">
            <a:avLst/>
          </a:prstGeom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Line 17"/>
          <p:cNvSpPr/>
          <p:nvPr/>
        </p:nvSpPr>
        <p:spPr>
          <a:xfrm>
            <a:off x="5003640" y="5013000"/>
            <a:ext cx="360" cy="360"/>
          </a:xfrm>
          <a:prstGeom prst="line">
            <a:avLst/>
          </a:prstGeom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1785960" y="5072040"/>
            <a:ext cx="1152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15,5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500040" y="5072040"/>
            <a:ext cx="1368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171717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171717"/>
                </a:solidFill>
                <a:latin typeface="Times New Roman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2928960" y="5072040"/>
            <a:ext cx="791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1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3"/>
          <p:cNvSpPr/>
          <p:nvPr/>
        </p:nvSpPr>
        <p:spPr>
          <a:xfrm>
            <a:off x="3857760" y="5072040"/>
            <a:ext cx="1007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22,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4"/>
          <p:cNvSpPr/>
          <p:nvPr/>
        </p:nvSpPr>
        <p:spPr>
          <a:xfrm>
            <a:off x="5072040" y="5072040"/>
            <a:ext cx="1109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26;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5"/>
          <p:cNvSpPr/>
          <p:nvPr/>
        </p:nvSpPr>
        <p:spPr>
          <a:xfrm>
            <a:off x="2571840" y="5786280"/>
            <a:ext cx="122508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71717"/>
                </a:solidFill>
                <a:latin typeface="Times New Roman"/>
              </a:rPr>
              <a:t>d=3</a:t>
            </a:r>
            <a:r>
              <a:rPr b="0" lang="ru-RU" sz="3200" spc="-1" strike="noStrike">
                <a:solidFill>
                  <a:srgbClr val="171717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171717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26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08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250920" y="404640"/>
            <a:ext cx="8892720" cy="197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3.Вычислите су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171717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17171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50</a:t>
            </a:r>
            <a:r>
              <a:rPr b="0" i="1" lang="ru-RU" sz="3200" spc="-1" strike="noStrike" baseline="30000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 – 49</a:t>
            </a:r>
            <a:r>
              <a:rPr b="0" i="1" lang="ru-RU" sz="3200" spc="-1" strike="noStrike" baseline="30000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 + 48</a:t>
            </a:r>
            <a:r>
              <a:rPr b="0" i="1" lang="ru-RU" sz="3200" spc="-1" strike="noStrike" baseline="30000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 – 47</a:t>
            </a:r>
            <a:r>
              <a:rPr b="0" i="1" lang="ru-RU" sz="3200" spc="-1" strike="noStrike" baseline="30000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 + 46</a:t>
            </a:r>
            <a:r>
              <a:rPr b="0" i="1" lang="ru-RU" sz="3200" spc="-1" strike="noStrike" baseline="30000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 – 45</a:t>
            </a:r>
            <a:r>
              <a:rPr b="0" i="1" lang="ru-RU" sz="3200" spc="-1" strike="noStrike" baseline="30000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 +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                                       … 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+ 4</a:t>
            </a:r>
            <a:r>
              <a:rPr b="0" i="1" lang="ru-RU" sz="3200" spc="-1" strike="noStrike" baseline="30000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 – 3</a:t>
            </a:r>
            <a:r>
              <a:rPr b="0" i="1" lang="ru-RU" sz="3200" spc="-1" strike="noStrike" baseline="30000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 +2</a:t>
            </a:r>
            <a:r>
              <a:rPr b="0" i="1" lang="ru-RU" sz="3200" spc="-1" strike="noStrike" baseline="30000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 – 1</a:t>
            </a:r>
            <a:r>
              <a:rPr b="0" i="1" lang="ru-RU" sz="3200" spc="-1" strike="noStrike" baseline="30000">
                <a:solidFill>
                  <a:srgbClr val="171717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755640" y="5734080"/>
            <a:ext cx="216036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0" lang="ru-RU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11" name="Object 10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1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12"/>
          <p:cNvGraphicFramePr/>
          <p:nvPr/>
        </p:nvGraphicFramePr>
        <p:xfrm>
          <a:off x="4514760" y="3321000"/>
          <a:ext cx="114120" cy="215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41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Управляющая кнопка: настраиваемая 11">
            <a:hlinkClick r:id="rId5" action="ppaction://hlinksldjump"/>
          </p:cNvPr>
          <p:cNvSpPr/>
          <p:nvPr/>
        </p:nvSpPr>
        <p:spPr>
          <a:xfrm>
            <a:off x="6786720" y="2714760"/>
            <a:ext cx="1785600" cy="428400"/>
          </a:xfrm>
          <a:prstGeom prst="actionButtonBlank">
            <a:avLst/>
          </a:prstGeom>
          <a:solidFill>
            <a:schemeClr val="tx2"/>
          </a:solidFill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a3a3a"/>
                </a:solidFill>
                <a:latin typeface="Arial"/>
              </a:rPr>
              <a:t>  </a:t>
            </a:r>
            <a:r>
              <a:rPr b="1" lang="ru-RU" sz="2000" spc="-1" strike="noStrike" u="sng">
                <a:solidFill>
                  <a:srgbClr val="0059b2"/>
                </a:solidFill>
                <a:uFillTx/>
                <a:latin typeface="Arial Unicode MS"/>
                <a:ea typeface="Arial Unicode MS"/>
                <a:hlinkClick r:id="rId6" action="ppaction://hlinksldjump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2"/>
          <p:cNvSpPr/>
          <p:nvPr/>
        </p:nvSpPr>
        <p:spPr>
          <a:xfrm>
            <a:off x="214200" y="3286080"/>
            <a:ext cx="864360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4. Решите уравн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171717"/>
                </a:solidFill>
                <a:latin typeface="Arial"/>
              </a:rPr>
              <a:t>(х+248)+(х+243)+(х+238) +……+ (х+3) = 62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Управляющая кнопка: настраиваемая 13">
            <a:hlinkClick r:id="rId7" action="ppaction://hlinksldjump"/>
          </p:cNvPr>
          <p:cNvSpPr/>
          <p:nvPr/>
        </p:nvSpPr>
        <p:spPr>
          <a:xfrm>
            <a:off x="6929280" y="4714920"/>
            <a:ext cx="1785600" cy="428400"/>
          </a:xfrm>
          <a:prstGeom prst="actionButtonBlank">
            <a:avLst/>
          </a:prstGeom>
          <a:solidFill>
            <a:schemeClr val="tx2"/>
          </a:solidFill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a3a3a"/>
                </a:solidFill>
                <a:latin typeface="Arial"/>
              </a:rPr>
              <a:t>  </a:t>
            </a:r>
            <a:r>
              <a:rPr b="1" lang="ru-RU" sz="2000" spc="-1" strike="noStrike" u="sng">
                <a:solidFill>
                  <a:srgbClr val="002d59"/>
                </a:solidFill>
                <a:uFillTx/>
                <a:latin typeface="Arial Unicode MS"/>
                <a:ea typeface="Arial Unicode MS"/>
                <a:hlinkClick r:id="rId8" action="ppaction://hlinksldjump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214200" y="3143160"/>
            <a:ext cx="8628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Задача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Лекарственную настойку пьют каплями: в 1-ый день 6 капель, а в каждый следующий на 3 капли больше, чем в предыдущий. </a:t>
            </a:r>
            <a:r>
              <a:rPr b="0" i="1" lang="en-US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Начиная с 11-го дня, дневную дозу еже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убавляют на 3 капли и заканчивают курс лечения на 19-ый день после его нач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а) Сколько капель лекарства примет больной за первые</a:t>
            </a:r>
            <a:r>
              <a:rPr b="0" i="1" lang="en-US" sz="2400" spc="-1" strike="noStrike">
                <a:solidFill>
                  <a:srgbClr val="35354d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10 дней л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б) Сколько капель лекарства назначено на курс </a:t>
            </a:r>
            <a:r>
              <a:rPr b="0" i="1" lang="en-US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леч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1928880" y="142920"/>
            <a:ext cx="557172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 u="sng">
                <a:solidFill>
                  <a:srgbClr val="35354d"/>
                </a:solidFill>
                <a:uFillTx/>
                <a:latin typeface="Times New Roman"/>
              </a:rPr>
              <a:t>Химико-биологический профи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3"/>
          <p:cNvSpPr/>
          <p:nvPr/>
        </p:nvSpPr>
        <p:spPr>
          <a:xfrm>
            <a:off x="214200" y="428760"/>
            <a:ext cx="8500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Задач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Продолжительность прогулки грудного ребёнка в первый день составляет 20 минут, за тем она увеличивается ежедневно на одно и тоже время и на 11-ый день   доводится до 2ч. в день. На какое количество времени надо увеличивать продолжительность прогулки ежеднев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7072200" y="6429240"/>
            <a:ext cx="1785600" cy="428400"/>
          </a:xfrm>
          <a:prstGeom prst="actionButtonBlank">
            <a:avLst/>
          </a:prstGeom>
          <a:solidFill>
            <a:schemeClr val="tx2"/>
          </a:solidFill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a3a3a"/>
                </a:solidFill>
                <a:latin typeface="Arial"/>
              </a:rPr>
              <a:t>  </a:t>
            </a:r>
            <a:r>
              <a:rPr b="1" lang="ru-RU" sz="2000" spc="-1" strike="noStrike" u="sng">
                <a:solidFill>
                  <a:srgbClr val="0059b2"/>
                </a:solidFill>
                <a:uFillTx/>
                <a:latin typeface="Arial Unicode MS"/>
                <a:ea typeface="Arial Unicode MS"/>
                <a:hlinkClick r:id="rId2" action="ppaction://hlinksldjump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5944680" y="2643120"/>
            <a:ext cx="2718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Ответ: на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1609920" y="214200"/>
            <a:ext cx="5825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 u="sng">
                <a:solidFill>
                  <a:srgbClr val="35354d"/>
                </a:solidFill>
                <a:uFillTx/>
                <a:latin typeface="Times New Roman"/>
              </a:rPr>
              <a:t>Социально-экономический профиль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214200" y="714240"/>
            <a:ext cx="8500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Задач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Премиальный фонд составляет 16250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Надо разделить его между четырьмя сотрудниками, согласно доле участия каждого так, чтобы каждый следующий получил в 1,5 раза больше предыдущ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Какую премию получит каждый сотруд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285840" y="3500280"/>
            <a:ext cx="8500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Задача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Банк начисляет20% годовых и внесённая сумма равна 5000руб. Какая сумма будет на счёте клиента через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А) при начислении банком простых проц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Б) при начислении банком сложных проц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Управляющая кнопка: настраиваемая 5">
            <a:hlinkClick r:id="rId1" action="ppaction://hlinksldjump"/>
          </p:cNvPr>
          <p:cNvSpPr/>
          <p:nvPr/>
        </p:nvSpPr>
        <p:spPr>
          <a:xfrm>
            <a:off x="6786720" y="5643720"/>
            <a:ext cx="1785600" cy="428400"/>
          </a:xfrm>
          <a:prstGeom prst="actionButtonBlank">
            <a:avLst/>
          </a:prstGeom>
          <a:solidFill>
            <a:schemeClr val="tx2"/>
          </a:solidFill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a3a3a"/>
                </a:solidFill>
                <a:latin typeface="Arial"/>
              </a:rPr>
              <a:t>  </a:t>
            </a:r>
            <a:r>
              <a:rPr b="1" lang="ru-RU" sz="2000" spc="-1" strike="noStrike" u="sng">
                <a:solidFill>
                  <a:srgbClr val="0059b2"/>
                </a:solidFill>
                <a:uFillTx/>
                <a:latin typeface="Arial Unicode MS"/>
                <a:ea typeface="Arial Unicode MS"/>
                <a:hlinkClick r:id="rId2" action="ppaction://hlinksldjump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1214280" y="2000160"/>
            <a:ext cx="4142880" cy="228564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AutoShape 3"/>
          <p:cNvSpPr/>
          <p:nvPr/>
        </p:nvSpPr>
        <p:spPr>
          <a:xfrm>
            <a:off x="1214280" y="2000160"/>
            <a:ext cx="4142880" cy="2285640"/>
          </a:xfrm>
          <a:prstGeom prst="flowChartDecision">
            <a:avLst/>
          </a:prstGeom>
          <a:solidFill>
            <a:schemeClr val="bg2">
              <a:lumMod val="20000"/>
              <a:lumOff val="8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2214720" y="2571840"/>
            <a:ext cx="2142720" cy="109296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AutoShape 5"/>
          <p:cNvSpPr/>
          <p:nvPr/>
        </p:nvSpPr>
        <p:spPr>
          <a:xfrm>
            <a:off x="2214720" y="2571840"/>
            <a:ext cx="2071440" cy="1071360"/>
          </a:xfrm>
          <a:prstGeom prst="flowChartDecision">
            <a:avLst/>
          </a:prstGeom>
          <a:solidFill>
            <a:schemeClr val="bg2">
              <a:lumMod val="20000"/>
              <a:lumOff val="8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2714760" y="2857320"/>
            <a:ext cx="1071360" cy="49968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Блок-схема: решение 6"/>
          <p:cNvSpPr/>
          <p:nvPr/>
        </p:nvSpPr>
        <p:spPr>
          <a:xfrm>
            <a:off x="2714760" y="2857320"/>
            <a:ext cx="1057680" cy="496440"/>
          </a:xfrm>
          <a:prstGeom prst="flowChartDecision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eaeaea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433" name="Picture 2" descr="http://im4-tub-ru.yandex.net/i?id=105786099-21-72"/>
          <p:cNvPicPr/>
          <p:nvPr/>
        </p:nvPicPr>
        <p:blipFill>
          <a:blip r:embed="rId1"/>
          <a:stretch/>
        </p:blipFill>
        <p:spPr>
          <a:xfrm>
            <a:off x="0" y="4500720"/>
            <a:ext cx="1785600" cy="214272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9"/>
          <p:cNvSpPr/>
          <p:nvPr/>
        </p:nvSpPr>
        <p:spPr>
          <a:xfrm>
            <a:off x="1118160" y="142920"/>
            <a:ext cx="5640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 u="sng">
                <a:solidFill>
                  <a:srgbClr val="35354d"/>
                </a:solidFill>
                <a:uFillTx/>
                <a:latin typeface="Times New Roman"/>
              </a:rPr>
              <a:t>Физико-математический профи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0"/>
          <p:cNvSpPr/>
          <p:nvPr/>
        </p:nvSpPr>
        <p:spPr>
          <a:xfrm>
            <a:off x="357120" y="714240"/>
            <a:ext cx="8500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Задач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Дан прямоугольник. Середины сторон этого прямоугольника соединили отрезками и получили ромб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1"/>
          <p:cNvSpPr/>
          <p:nvPr/>
        </p:nvSpPr>
        <p:spPr>
          <a:xfrm>
            <a:off x="5500800" y="1857240"/>
            <a:ext cx="350028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Площадь восьмой по счёту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ра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35354d"/>
                </a:solidFill>
                <a:latin typeface="Times New Roman"/>
              </a:rPr>
              <a:t>Какая это фигу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35354d"/>
                </a:solidFill>
                <a:latin typeface="Times New Roman"/>
              </a:rPr>
              <a:t>Найдите площадь исходной фиг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Object 1"/>
          <p:cNvGraphicFramePr/>
          <p:nvPr/>
        </p:nvGraphicFramePr>
        <p:xfrm>
          <a:off x="6643800" y="2571840"/>
          <a:ext cx="713880" cy="55512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43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3800" y="2571840"/>
                    <a:ext cx="7138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TextBox 13"/>
          <p:cNvSpPr/>
          <p:nvPr/>
        </p:nvSpPr>
        <p:spPr>
          <a:xfrm>
            <a:off x="1785960" y="4357800"/>
            <a:ext cx="7214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35354d"/>
                </a:solidFill>
                <a:latin typeface="Times New Roman"/>
              </a:rPr>
              <a:t>Задача 2. 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Раскачиваясь маятник прошёл расстояние 50см, каждое следующее движение, пройденное им расстояние составляет 80% предыдущего. Последовательность составлена из расстояний, которые проходит маятник. Определите вид последовательности. Запишите формулу </a:t>
            </a:r>
            <a:r>
              <a:rPr b="0" i="1" lang="en-US" sz="2400" spc="-1" strike="noStrike">
                <a:solidFill>
                  <a:srgbClr val="35354d"/>
                </a:solidFill>
                <a:latin typeface="Times New Roman"/>
              </a:rPr>
              <a:t>n</a:t>
            </a:r>
            <a:r>
              <a:rPr b="0" i="1" lang="ru-RU" sz="2400" spc="-1" strike="noStrike">
                <a:solidFill>
                  <a:srgbClr val="35354d"/>
                </a:solidFill>
                <a:latin typeface="Times New Roman"/>
              </a:rPr>
              <a:t>-го ч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Управляющая кнопка: настраиваемая 14">
            <a:hlinkClick r:id="rId4" action="ppaction://hlinksldjump"/>
          </p:cNvPr>
          <p:cNvSpPr/>
          <p:nvPr/>
        </p:nvSpPr>
        <p:spPr>
          <a:xfrm>
            <a:off x="7072200" y="4071960"/>
            <a:ext cx="1785600" cy="428400"/>
          </a:xfrm>
          <a:prstGeom prst="actionButtonBlank">
            <a:avLst/>
          </a:prstGeom>
          <a:solidFill>
            <a:schemeClr val="tx2"/>
          </a:solidFill>
          <a:ln w="9525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i="1" lang="ru-RU" sz="2000" spc="-1" strike="noStrike" u="sng">
                <a:solidFill>
                  <a:srgbClr val="0059b2"/>
                </a:solidFill>
                <a:uFillTx/>
                <a:latin typeface="Arial Unicode MS"/>
                <a:ea typeface="Arial Unicode MS"/>
                <a:hlinkClick r:id="rId5" action="ppaction://hlinksldjump"/>
              </a:rPr>
              <a:t>  </a:t>
            </a:r>
            <a:r>
              <a:rPr b="1" lang="ru-RU" sz="2000" spc="-1" strike="noStrike" u="sng">
                <a:solidFill>
                  <a:srgbClr val="0059b2"/>
                </a:solidFill>
                <a:uFillTx/>
                <a:latin typeface="Arial Unicode MS"/>
                <a:ea typeface="Arial Unicode MS"/>
                <a:hlinkClick r:id="rId6" action="ppaction://hlinksldjump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етка с тенью">
  <a:themeElements>
    <a:clrScheme name="Сетка с тенью 4">
      <a:dk1>
        <a:srgbClr val="6b6b99"/>
      </a:dk1>
      <a:lt1>
        <a:srgbClr val="eaeaea"/>
      </a:lt1>
      <a:dk2>
        <a:srgbClr val="666699"/>
      </a:dk2>
      <a:lt2>
        <a:srgbClr val="ccecff"/>
      </a:lt2>
      <a:accent1>
        <a:srgbClr val="00cc66"/>
      </a:accent1>
      <a:accent2>
        <a:srgbClr val="54547a"/>
      </a:accent2>
      <a:accent3>
        <a:srgbClr val="b8b8ca"/>
      </a:accent3>
      <a:accent4>
        <a:srgbClr val="c8c8c8"/>
      </a:accent4>
      <a:accent5>
        <a:srgbClr val="aae2b8"/>
      </a:accent5>
      <a:accent6>
        <a:srgbClr val="4b4b6e"/>
      </a:accent6>
      <a:hlink>
        <a:srgbClr val="65b2ff"/>
      </a:hlink>
      <a:folHlink>
        <a:srgbClr val="99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етка с тенью">
  <a:themeElements>
    <a:clrScheme name="Сетка с тенью 4">
      <a:dk1>
        <a:srgbClr val="6b6b99"/>
      </a:dk1>
      <a:lt1>
        <a:srgbClr val="eaeaea"/>
      </a:lt1>
      <a:dk2>
        <a:srgbClr val="666699"/>
      </a:dk2>
      <a:lt2>
        <a:srgbClr val="ccecff"/>
      </a:lt2>
      <a:accent1>
        <a:srgbClr val="00cc66"/>
      </a:accent1>
      <a:accent2>
        <a:srgbClr val="54547a"/>
      </a:accent2>
      <a:accent3>
        <a:srgbClr val="b8b8ca"/>
      </a:accent3>
      <a:accent4>
        <a:srgbClr val="c8c8c8"/>
      </a:accent4>
      <a:accent5>
        <a:srgbClr val="aae2b8"/>
      </a:accent5>
      <a:accent6>
        <a:srgbClr val="4b4b6e"/>
      </a:accent6>
      <a:hlink>
        <a:srgbClr val="65b2ff"/>
      </a:hlink>
      <a:folHlink>
        <a:srgbClr val="9900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2920</TotalTime>
  <Application>LibreOffice/7.4.7.2$Linux_X86_64 LibreOffice_project/40$Build-2</Application>
  <AppVersion>15.0000</AppVersion>
  <Words>1318</Words>
  <Paragraphs>195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6:55:26Z</dcterms:created>
  <dc:creator>Владимир</dc:creator>
  <dc:description/>
  <dc:language>en-US</dc:language>
  <cp:lastModifiedBy>Admin</cp:lastModifiedBy>
  <dcterms:modified xsi:type="dcterms:W3CDTF">2021-02-08T12:14:34Z</dcterms:modified>
  <cp:revision>1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